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025F0-4722-47A9-BB50-D4547ABFF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E6236-0D49-4CC5-8E57-EF9D1040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AC51F-4F38-4D79-948C-DA8CC9FA7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E2A01-577D-47F4-8F85-B2D722B3D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25CDE-EA33-4272-85A2-F8EA6C308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BD885-CBEE-4423-844C-DE37E1EF3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0E2D7-086C-4C27-9756-12356F39A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715D6-4572-4E56-A064-6E4FFFC86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E31A2-CD6A-4198-BCBE-98D55D66E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2E229-A246-4D55-AE36-55CCBDDB5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94A06-D86C-473F-B526-AA9567EC3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09ADB-9288-47BB-B8CD-BD0D6447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8342A-4FEC-445A-9875-D09EA423D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2864E-2256-461F-B391-DA8B54D63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13949-3543-4850-ABD6-74CB7DBDC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541E7-D1DD-4F89-AF27-7F3CE8777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4CF95-9F7D-4D6B-A1FC-C2A524ED5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BF900-B5B9-4380-B1A7-10FE4DC3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C0BAC-BA06-4D7C-8565-02374B01B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2FB6A-F7A6-4EC0-8AA1-7A82B0F68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B3056-75D6-46C8-AB84-E2EA90E16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0702-A31A-442F-AB31-8CA649DEB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FD6C-C5CC-4DD4-905E-F022B7BCB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AD447-8C78-4EBB-9E7B-28FB4B6F0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70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70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70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0D46-1B7C-45BE-B762-164AE98116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0C1C-3F5E-4A4C-BB1A-8E0A78EEC5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0"/>
            <a:ext cx="7772400" cy="99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glish Language Proficiency</a:t>
            </a:r>
            <a:endParaRPr b="0" lang="en-US" sz="4400" spc="-1" strike="noStrike">
              <a:solidFill>
                <a:srgbClr val="ffcc66"/>
              </a:solidFill>
              <a:latin typeface="Times New Roman"/>
            </a:endParaRPr>
          </a:p>
        </p:txBody>
      </p:sp>
      <p:sp>
        <p:nvSpPr>
          <p:cNvPr id="83" name="PlaceHolder 2"/>
          <p:cNvSpPr>
            <a:spLocks noGrp="1"/>
          </p:cNvSpPr>
          <p:nvPr>
            <p:ph type="subTitle"/>
          </p:nvPr>
        </p:nvSpPr>
        <p:spPr>
          <a:xfrm>
            <a:off x="685800" y="3352320"/>
            <a:ext cx="7772400" cy="1219320"/>
          </a:xfrm>
          <a:prstGeom prst="rect">
            <a:avLst/>
          </a:prstGeom>
          <a:noFill/>
          <a:ln w="0">
            <a:noFill/>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ndy Wegenk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SA 2, March 17, 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4 Expanding</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udent understands and speaks conversational English without apparent difficulty, but understands and speaks academic English with some hesitancy. The students continues to acquire reading &amp; writing skills in content areas needed to achieve grade level expectations with assistance.</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5 - Bridg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udent understaqnds and speaks conversational and academic English well.  The student is near proficient in reading, writing, and content area skills needed to meet grade level expectations.  The student requires occasional support.</a:t>
            </a:r>
            <a:endParaRPr b="0" lang="en-US" sz="3200" spc="-1" strike="noStrike">
              <a:solidFill>
                <a:srgbClr val="ffffff"/>
              </a:solidFill>
              <a:latin typeface="Arial"/>
            </a:endParaRPr>
          </a:p>
          <a:p>
            <a:pPr marL="343080" indent="-3430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
        <p:nvSpPr>
          <p:cNvPr id="105" name="Ink 4"/>
          <p:cNvSpPr/>
          <p:nvPr/>
        </p:nvSpPr>
        <p:spPr>
          <a:xfrm>
            <a:off x="1785960" y="4527720"/>
            <a:ext cx="1440" cy="1440"/>
          </a:xfrm>
          <a:custGeom>
            <a:avLst/>
            <a:gdLst/>
            <a:ahLst/>
            <a:rect l="l" t="t" r="r" b="b"/>
            <a:pathLst>
              <a:path w="1" h="1">
                <a:moveTo>
                  <a:pt x="4961" y="12576"/>
                </a:moveTo>
                <a:lnTo>
                  <a:pt x="4961" y="12576"/>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 Language Domains</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Listening</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Speaking</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Reading </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Writing</a:t>
            </a:r>
            <a:endParaRPr b="0" lang="en-US" sz="4800" spc="-1" strike="noStrike">
              <a:solidFill>
                <a:srgbClr val="ffffff"/>
              </a:solidFill>
              <a:latin typeface="Arial"/>
            </a:endParaRPr>
          </a:p>
        </p:txBody>
      </p:sp>
      <p:sp>
        <p:nvSpPr>
          <p:cNvPr id="108" name="Ink 4"/>
          <p:cNvSpPr/>
          <p:nvPr/>
        </p:nvSpPr>
        <p:spPr>
          <a:xfrm>
            <a:off x="3224160" y="44280"/>
            <a:ext cx="34920" cy="71640"/>
          </a:xfrm>
          <a:custGeom>
            <a:avLst/>
            <a:gdLst/>
            <a:ahLst/>
            <a:rect l="l" t="t" r="r" b="b"/>
            <a:pathLst>
              <a:path w="101" h="199">
                <a:moveTo>
                  <a:pt x="8954" y="124"/>
                </a:moveTo>
                <a:cubicBezTo>
                  <a:pt x="8954" y="186"/>
                  <a:pt x="8969" y="230"/>
                  <a:pt x="9004" y="273"/>
                </a:cubicBezTo>
                <a:cubicBezTo>
                  <a:pt x="9043" y="311"/>
                  <a:pt x="9060" y="343"/>
                  <a:pt x="9054" y="298"/>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09" name="Ink 5"/>
          <p:cNvSpPr/>
          <p:nvPr/>
        </p:nvSpPr>
        <p:spPr>
          <a:xfrm>
            <a:off x="5027760" y="0"/>
            <a:ext cx="9360" cy="19080"/>
          </a:xfrm>
          <a:custGeom>
            <a:avLst/>
            <a:gdLst/>
            <a:ahLst/>
            <a:rect l="l" t="t" r="r" b="b"/>
            <a:pathLst>
              <a:path w="26" h="51">
                <a:moveTo>
                  <a:pt x="13965" y="50"/>
                </a:moveTo>
                <a:cubicBezTo>
                  <a:pt x="13965" y="22"/>
                  <a:pt x="13967" y="11"/>
                  <a:pt x="13990" y="0"/>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Listening</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676520"/>
            <a:ext cx="77724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stening</a:t>
            </a:r>
            <a:endParaRPr b="0" lang="en-US" sz="32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int to state pictures words &amp; phrase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conclusions from oral inform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nd apply oral inform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ch oral statements to objects, figures or illustr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cause and effect from oral discour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rt pictures, objects according to oral instruc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 models based on oral discour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select, order information from oral descrip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 multi-step oral directions.</a:t>
            </a:r>
            <a:endParaRPr b="0" lang="en-US" sz="2400" spc="-1" strike="noStrike">
              <a:solidFill>
                <a:srgbClr val="ffffff"/>
              </a:solidFill>
              <a:latin typeface="Arial"/>
            </a:endParaRPr>
          </a:p>
        </p:txBody>
      </p:sp>
      <p:sp>
        <p:nvSpPr>
          <p:cNvPr id="112" name="Ink 4"/>
          <p:cNvSpPr/>
          <p:nvPr/>
        </p:nvSpPr>
        <p:spPr>
          <a:xfrm>
            <a:off x="1357200" y="4822920"/>
            <a:ext cx="1800" cy="1440"/>
          </a:xfrm>
          <a:custGeom>
            <a:avLst/>
            <a:gdLst/>
            <a:ahLst/>
            <a:rect l="l" t="t" r="r" b="b"/>
            <a:pathLst>
              <a:path w="1" h="1">
                <a:moveTo>
                  <a:pt x="3770" y="13395"/>
                </a:moveTo>
                <a:lnTo>
                  <a:pt x="3770" y="13395"/>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 name="Ink 5"/>
          <p:cNvSpPr/>
          <p:nvPr/>
        </p:nvSpPr>
        <p:spPr>
          <a:xfrm>
            <a:off x="1401840" y="3902040"/>
            <a:ext cx="125280" cy="214200"/>
          </a:xfrm>
          <a:custGeom>
            <a:avLst/>
            <a:gdLst/>
            <a:ahLst/>
            <a:rect l="l" t="t" r="r" b="b"/>
            <a:pathLst>
              <a:path w="349" h="596">
                <a:moveTo>
                  <a:pt x="4167" y="11435"/>
                </a:moveTo>
                <a:cubicBezTo>
                  <a:pt x="4167" y="11376"/>
                  <a:pt x="4157" y="11357"/>
                  <a:pt x="4142" y="11311"/>
                </a:cubicBezTo>
                <a:cubicBezTo>
                  <a:pt x="4136" y="11293"/>
                  <a:pt x="4105" y="11220"/>
                  <a:pt x="4093" y="11212"/>
                </a:cubicBezTo>
                <a:cubicBezTo>
                  <a:pt x="4068" y="11196"/>
                  <a:pt x="4048" y="11199"/>
                  <a:pt x="4043" y="11162"/>
                </a:cubicBezTo>
                <a:cubicBezTo>
                  <a:pt x="4039" y="11130"/>
                  <a:pt x="4043" y="11095"/>
                  <a:pt x="4043" y="11063"/>
                </a:cubicBezTo>
                <a:cubicBezTo>
                  <a:pt x="4054" y="11097"/>
                  <a:pt x="4078" y="11093"/>
                  <a:pt x="4093" y="11137"/>
                </a:cubicBezTo>
                <a:cubicBezTo>
                  <a:pt x="4106" y="11177"/>
                  <a:pt x="4108" y="11197"/>
                  <a:pt x="4118" y="11237"/>
                </a:cubicBezTo>
                <a:cubicBezTo>
                  <a:pt x="4118" y="11278"/>
                  <a:pt x="4118" y="11286"/>
                  <a:pt x="4118" y="11311"/>
                </a:cubicBezTo>
                <a:cubicBezTo>
                  <a:pt x="4108" y="11218"/>
                  <a:pt x="4079" y="11126"/>
                  <a:pt x="4043" y="11038"/>
                </a:cubicBezTo>
                <a:cubicBezTo>
                  <a:pt x="4031" y="11008"/>
                  <a:pt x="3986" y="10879"/>
                  <a:pt x="3969" y="10864"/>
                </a:cubicBezTo>
                <a:cubicBezTo>
                  <a:pt x="3944" y="10864"/>
                  <a:pt x="3936" y="10864"/>
                  <a:pt x="3944" y="10840"/>
                </a:cubicBezTo>
                <a:cubicBezTo>
                  <a:pt x="3915" y="10877"/>
                  <a:pt x="3919" y="10891"/>
                  <a:pt x="3919" y="10939"/>
                </a:cubicBezTo>
                <a:cubicBezTo>
                  <a:pt x="3919" y="11007"/>
                  <a:pt x="3927" y="11055"/>
                  <a:pt x="3944" y="11112"/>
                </a:cubicBezTo>
                <a:cubicBezTo>
                  <a:pt x="3956" y="11153"/>
                  <a:pt x="3944" y="11217"/>
                  <a:pt x="3944" y="11261"/>
                </a:cubicBezTo>
                <a:cubicBezTo>
                  <a:pt x="3944" y="11210"/>
                  <a:pt x="3929" y="11208"/>
                  <a:pt x="3919" y="11187"/>
                </a:cubicBezTo>
                <a:cubicBezTo>
                  <a:pt x="3905" y="11159"/>
                  <a:pt x="3949" y="11037"/>
                  <a:pt x="3894" y="11038"/>
                </a:cubicBezTo>
                <a:cubicBezTo>
                  <a:pt x="3876" y="11038"/>
                  <a:pt x="3948" y="11063"/>
                  <a:pt x="3969" y="11063"/>
                </a:cubicBezTo>
                <a:cubicBezTo>
                  <a:pt x="4037" y="11063"/>
                  <a:pt x="4086" y="11057"/>
                  <a:pt x="4142" y="11038"/>
                </a:cubicBezTo>
                <a:cubicBezTo>
                  <a:pt x="4177" y="11026"/>
                  <a:pt x="4166" y="10994"/>
                  <a:pt x="4217" y="10988"/>
                </a:cubicBezTo>
                <a:cubicBezTo>
                  <a:pt x="4225" y="10988"/>
                  <a:pt x="4234" y="10988"/>
                  <a:pt x="4242" y="10988"/>
                </a:cubicBezTo>
                <a:cubicBezTo>
                  <a:pt x="4232" y="11027"/>
                  <a:pt x="4209" y="11041"/>
                  <a:pt x="4192" y="11063"/>
                </a:cubicBezTo>
                <a:cubicBezTo>
                  <a:pt x="4168" y="11096"/>
                  <a:pt x="4153" y="11088"/>
                  <a:pt x="4118" y="11088"/>
                </a:cubicBezTo>
                <a:cubicBezTo>
                  <a:pt x="4105" y="11050"/>
                  <a:pt x="4096" y="11059"/>
                  <a:pt x="4068" y="11038"/>
                </a:cubicBezTo>
                <a:cubicBezTo>
                  <a:pt x="4045" y="11015"/>
                  <a:pt x="4041" y="11007"/>
                  <a:pt x="4018" y="110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Listening</a:t>
            </a:r>
            <a:endParaRPr b="0" lang="en-US" sz="4400" spc="-1" strike="noStrike">
              <a:solidFill>
                <a:srgbClr val="ffcc66"/>
              </a:solidFill>
              <a:latin typeface="Times New Roman"/>
            </a:endParaRPr>
          </a:p>
        </p:txBody>
      </p:sp>
      <p:sp>
        <p:nvSpPr>
          <p:cNvPr id="115" name="PlaceHolder 2"/>
          <p:cNvSpPr>
            <a:spLocks noGrp="1"/>
          </p:cNvSpPr>
          <p:nvPr>
            <p:ph/>
          </p:nvPr>
        </p:nvSpPr>
        <p:spPr>
          <a:xfrm>
            <a:off x="685440" y="1676520"/>
            <a:ext cx="84582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stening</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400" spc="-1" strike="noStrike">
                <a:solidFill>
                  <a:srgbClr val="ffffff"/>
                </a:solidFill>
                <a:latin typeface="Arial"/>
              </a:rPr>
              <a:t>Point to state pictures words &amp; phrase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Draw conclusions from oral inform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nalyze and apply oral inform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atch oral statements to objects, figures or illustra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Identify cause and effect from oral discour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ort pictures, objects according to oral instruc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Construct models based on oral discour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cate, select, order information from oral descrip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llow multi-step oral directions.</a:t>
            </a:r>
            <a:endParaRPr b="0" lang="en-US" sz="2400" spc="-1" strike="noStrike">
              <a:solidFill>
                <a:srgbClr val="ffffff"/>
              </a:solidFill>
              <a:latin typeface="Arial"/>
            </a:endParaRPr>
          </a:p>
        </p:txBody>
      </p:sp>
      <p:sp>
        <p:nvSpPr>
          <p:cNvPr id="116" name="Ink 4"/>
          <p:cNvSpPr/>
          <p:nvPr/>
        </p:nvSpPr>
        <p:spPr>
          <a:xfrm>
            <a:off x="965160" y="4911840"/>
            <a:ext cx="623880" cy="374400"/>
          </a:xfrm>
          <a:custGeom>
            <a:avLst/>
            <a:gdLst/>
            <a:ahLst/>
            <a:rect l="l" t="t" r="r" b="b"/>
            <a:pathLst>
              <a:path w="1737" h="1042">
                <a:moveTo>
                  <a:pt x="3845" y="13940"/>
                </a:moveTo>
                <a:cubicBezTo>
                  <a:pt x="3839" y="13898"/>
                  <a:pt x="3841" y="13891"/>
                  <a:pt x="3820" y="13866"/>
                </a:cubicBezTo>
                <a:cubicBezTo>
                  <a:pt x="3795" y="13837"/>
                  <a:pt x="3737" y="13809"/>
                  <a:pt x="3721" y="13791"/>
                </a:cubicBezTo>
                <a:cubicBezTo>
                  <a:pt x="3670" y="13732"/>
                  <a:pt x="3695" y="13727"/>
                  <a:pt x="3621" y="13717"/>
                </a:cubicBezTo>
                <a:cubicBezTo>
                  <a:pt x="3549" y="13708"/>
                  <a:pt x="3553" y="13733"/>
                  <a:pt x="3497" y="13767"/>
                </a:cubicBezTo>
                <a:cubicBezTo>
                  <a:pt x="3453" y="13793"/>
                  <a:pt x="3386" y="13806"/>
                  <a:pt x="3349" y="13841"/>
                </a:cubicBezTo>
                <a:cubicBezTo>
                  <a:pt x="3297" y="13890"/>
                  <a:pt x="3254" y="13911"/>
                  <a:pt x="3175" y="13915"/>
                </a:cubicBezTo>
                <a:cubicBezTo>
                  <a:pt x="3098" y="13919"/>
                  <a:pt x="3142" y="13950"/>
                  <a:pt x="3076" y="13965"/>
                </a:cubicBezTo>
                <a:cubicBezTo>
                  <a:pt x="3022" y="13977"/>
                  <a:pt x="3025" y="13986"/>
                  <a:pt x="2977" y="14015"/>
                </a:cubicBezTo>
                <a:cubicBezTo>
                  <a:pt x="2940" y="14038"/>
                  <a:pt x="2880" y="14101"/>
                  <a:pt x="2853" y="14114"/>
                </a:cubicBezTo>
                <a:cubicBezTo>
                  <a:pt x="2790" y="14143"/>
                  <a:pt x="2766" y="14145"/>
                  <a:pt x="2729" y="14213"/>
                </a:cubicBezTo>
                <a:cubicBezTo>
                  <a:pt x="2705" y="14256"/>
                  <a:pt x="2666" y="14303"/>
                  <a:pt x="2679" y="14362"/>
                </a:cubicBezTo>
                <a:cubicBezTo>
                  <a:pt x="2688" y="14404"/>
                  <a:pt x="2717" y="14443"/>
                  <a:pt x="2729" y="14461"/>
                </a:cubicBezTo>
                <a:cubicBezTo>
                  <a:pt x="2749" y="14490"/>
                  <a:pt x="2742" y="14522"/>
                  <a:pt x="2778" y="14560"/>
                </a:cubicBezTo>
                <a:cubicBezTo>
                  <a:pt x="2824" y="14609"/>
                  <a:pt x="2937" y="14674"/>
                  <a:pt x="3001" y="14684"/>
                </a:cubicBezTo>
                <a:cubicBezTo>
                  <a:pt x="3178" y="14713"/>
                  <a:pt x="3974" y="14781"/>
                  <a:pt x="4142" y="14660"/>
                </a:cubicBezTo>
                <a:cubicBezTo>
                  <a:pt x="4174" y="14637"/>
                  <a:pt x="4219" y="14612"/>
                  <a:pt x="4242" y="14585"/>
                </a:cubicBezTo>
                <a:cubicBezTo>
                  <a:pt x="4269" y="14553"/>
                  <a:pt x="4329" y="14490"/>
                  <a:pt x="4341" y="14461"/>
                </a:cubicBezTo>
                <a:cubicBezTo>
                  <a:pt x="4357" y="14421"/>
                  <a:pt x="4403" y="14350"/>
                  <a:pt x="4415" y="14312"/>
                </a:cubicBezTo>
                <a:cubicBezTo>
                  <a:pt x="4435" y="14245"/>
                  <a:pt x="4405" y="14169"/>
                  <a:pt x="4390" y="14139"/>
                </a:cubicBezTo>
                <a:cubicBezTo>
                  <a:pt x="4365" y="14091"/>
                  <a:pt x="4355" y="14098"/>
                  <a:pt x="4316" y="14064"/>
                </a:cubicBezTo>
                <a:cubicBezTo>
                  <a:pt x="4270" y="14024"/>
                  <a:pt x="4226" y="13944"/>
                  <a:pt x="4192" y="13915"/>
                </a:cubicBezTo>
                <a:cubicBezTo>
                  <a:pt x="4164" y="13891"/>
                  <a:pt x="4130" y="13883"/>
                  <a:pt x="4118" y="13866"/>
                </a:cubicBezTo>
                <a:cubicBezTo>
                  <a:pt x="4104" y="13846"/>
                  <a:pt x="4082" y="13773"/>
                  <a:pt x="4043" y="13767"/>
                </a:cubicBezTo>
                <a:cubicBezTo>
                  <a:pt x="4015" y="13763"/>
                  <a:pt x="3934" y="13800"/>
                  <a:pt x="3919" y="13816"/>
                </a:cubicBezTo>
                <a:cubicBezTo>
                  <a:pt x="3883" y="13855"/>
                  <a:pt x="3876" y="13877"/>
                  <a:pt x="3820" y="13891"/>
                </a:cubicBezTo>
                <a:cubicBezTo>
                  <a:pt x="3795" y="13891"/>
                  <a:pt x="3787" y="13891"/>
                  <a:pt x="3770" y="13891"/>
                </a:cubicBezTo>
                <a:cubicBezTo>
                  <a:pt x="3751" y="13851"/>
                  <a:pt x="3732" y="13800"/>
                  <a:pt x="3696" y="13767"/>
                </a:cubicBezTo>
                <a:cubicBezTo>
                  <a:pt x="3658" y="13732"/>
                  <a:pt x="3590" y="13671"/>
                  <a:pt x="3547" y="13643"/>
                </a:cubicBezTo>
                <a:cubicBezTo>
                  <a:pt x="3539" y="13643"/>
                  <a:pt x="3530" y="13643"/>
                  <a:pt x="3522" y="136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Speaking</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600200"/>
            <a:ext cx="777240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aking - </a:t>
            </a:r>
            <a:endParaRPr b="0" lang="en-US" sz="24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ell stories and even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give examples, and justify respons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ing objects, people, pictur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pictures, events, objects people.</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processes and procedur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 who, what, when, where question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stories, issues, concep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speech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age in debat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ate fac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ress and defend points of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Speaking</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1600200"/>
            <a:ext cx="777240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aking - </a:t>
            </a:r>
            <a:endParaRPr b="0" lang="en-US" sz="24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tell stories and even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xplain give examples, and justify respons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Naming objects, people, pictur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Describe pictures, events, objects people.</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scribe processes and procedur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nswer - who, what, when, where question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iscuss stories, issues, concep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ive speech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ngage in debat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state fac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xpress and defend points of view.</a:t>
            </a:r>
            <a:endParaRPr b="0" lang="en-US" sz="1800" spc="-1" strike="noStrike">
              <a:solidFill>
                <a:srgbClr val="ffffff"/>
              </a:solidFill>
              <a:latin typeface="Arial"/>
            </a:endParaRPr>
          </a:p>
        </p:txBody>
      </p:sp>
      <p:sp>
        <p:nvSpPr>
          <p:cNvPr id="121" name="Ink 4"/>
          <p:cNvSpPr/>
          <p:nvPr/>
        </p:nvSpPr>
        <p:spPr>
          <a:xfrm>
            <a:off x="2581200" y="1473120"/>
            <a:ext cx="1800" cy="9720"/>
          </a:xfrm>
          <a:custGeom>
            <a:avLst/>
            <a:gdLst/>
            <a:ahLst/>
            <a:rect l="l" t="t" r="r" b="b"/>
            <a:pathLst>
              <a:path w="1" h="26">
                <a:moveTo>
                  <a:pt x="7169" y="4118"/>
                </a:moveTo>
                <a:cubicBezTo>
                  <a:pt x="7169" y="4110"/>
                  <a:pt x="7169" y="4101"/>
                  <a:pt x="7169" y="4093"/>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Reading </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ding -</a:t>
            </a:r>
            <a:r>
              <a:rPr b="1" lang="en-US" sz="1400" spc="-1" strike="noStrike">
                <a:solidFill>
                  <a:srgbClr val="ffffff"/>
                </a:solidFill>
                <a:latin typeface="Arial"/>
              </a:rPr>
              <a:t> </a:t>
            </a:r>
            <a:endParaRPr b="0" lang="en-US" sz="14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 picture, events, process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 icons, and symbols to words, phrases or environmental print.</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d classify information.</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ain idea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 information or data.</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 conclusions from explicit and implicit text</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facts and explicit messag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concepts about print and text featur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ntext clues to determine meaning of word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details that support mains idea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uct research to glean information from multiple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Reading </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a:t>
            </a:r>
            <a:r>
              <a:rPr b="1" lang="en-US" sz="1200" spc="-1" strike="noStrike">
                <a:solidFill>
                  <a:srgbClr val="ffffff"/>
                </a:solidFill>
                <a:latin typeface="Arial"/>
              </a:rPr>
              <a:t> </a:t>
            </a:r>
            <a:endParaRPr b="0" lang="en-US" sz="12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400" spc="-1" strike="noStrike">
                <a:solidFill>
                  <a:srgbClr val="ffffff"/>
                </a:solidFill>
                <a:latin typeface="Arial"/>
              </a:rPr>
              <a:t>. </a:t>
            </a:r>
            <a:r>
              <a:rPr b="0" lang="en-US" sz="2000" spc="-1" strike="noStrike">
                <a:solidFill>
                  <a:srgbClr val="ffffff"/>
                </a:solidFill>
                <a:latin typeface="Arial"/>
              </a:rPr>
              <a:t>Sequence picture, events, process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atch icons, and symbols to words, phrases or environmental prin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ocate and classify informa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Identify main idea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Interpret information or dat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Draw conclusions from explicit and implicit tex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dentify facts and explicit messag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Identify concepts about print and text featur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Use context clues to determine meaning of word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ind details that support mains idea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onduct research</a:t>
            </a:r>
            <a:r>
              <a:rPr b="0" lang="en-US" sz="2400" spc="-1" strike="noStrike">
                <a:solidFill>
                  <a:srgbClr val="ffffff"/>
                </a:solidFill>
                <a:latin typeface="Arial"/>
              </a:rPr>
              <a:t> </a:t>
            </a:r>
            <a:r>
              <a:rPr b="0" lang="en-US" sz="2000" spc="-1" strike="noStrike">
                <a:solidFill>
                  <a:srgbClr val="ffffff"/>
                </a:solidFill>
                <a:latin typeface="Arial"/>
              </a:rPr>
              <a:t>to glean information from multiple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s: Writing</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60020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a:t>
            </a:r>
            <a:endParaRPr b="0" lang="en-US" sz="28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information to new contes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t to multiple genres and discourse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lis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 objects, picture and diagram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nd contrast information.</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drawings, phrases, short sentences, note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 and revise writing.</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information to new contex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original ideas or detailed response.</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events, people, processes, procedures.</a:t>
            </a:r>
            <a:endParaRPr b="0" lang="en-US" sz="2000" spc="-1" strike="noStrike">
              <a:solidFill>
                <a:srgbClr val="ffffff"/>
              </a:solidFill>
              <a:latin typeface="Arial"/>
            </a:endParaRPr>
          </a:p>
          <a:p>
            <a:pPr lvl="1" marL="735480" indent="-28296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ct to multiple genres and discour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Does It Mean?</a:t>
            </a:r>
            <a:endParaRPr b="0" lang="en-US" sz="4400" spc="-1" strike="noStrike">
              <a:solidFill>
                <a:srgbClr val="ffcc66"/>
              </a:solidFill>
              <a:latin typeface="Times New Roman"/>
            </a:endParaRPr>
          </a:p>
        </p:txBody>
      </p:sp>
      <p:sp>
        <p:nvSpPr>
          <p:cNvPr id="85" name="PlaceHolder 2"/>
          <p:cNvSpPr>
            <a:spLocks noGrp="1"/>
          </p:cNvSpPr>
          <p:nvPr>
            <p:ph/>
          </p:nvPr>
        </p:nvSpPr>
        <p:spPr>
          <a:xfrm>
            <a:off x="685440" y="1828440"/>
            <a:ext cx="3809880" cy="43434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h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ngual</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A</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a:t>
            </a:r>
            <a:endParaRPr b="0" lang="en-US" sz="2800" spc="-1" strike="noStrike">
              <a:solidFill>
                <a:srgbClr val="ffffff"/>
              </a:solidFill>
              <a:latin typeface="Arial"/>
            </a:endParaRPr>
          </a:p>
        </p:txBody>
      </p:sp>
      <p:sp>
        <p:nvSpPr>
          <p:cNvPr id="86" name="PlaceHolder 3"/>
          <p:cNvSpPr>
            <a:spLocks noGrp="1"/>
          </p:cNvSpPr>
          <p:nvPr>
            <p:ph/>
          </p:nvPr>
        </p:nvSpPr>
        <p:spPr>
          <a:xfrm>
            <a:off x="3554280" y="1828440"/>
            <a:ext cx="4626000" cy="43434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o Descriptors</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n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s: Writing</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a:t>
            </a:r>
            <a:endParaRPr b="0" lang="en-US" sz="24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pply information to new contes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React to multiple genres and discourse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ke lis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abel objects, picture and diagram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e and contrast information.</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Produce drawings, phrases, short sentences, note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Edit and revise writing.</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pply information to new contex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Create original ideas or detailed response.</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scribe events, people, processes, procedures.</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React to multiple genres and discour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istening Domain</a:t>
            </a:r>
            <a:endParaRPr b="0" lang="en-US" sz="4400" spc="-1" strike="noStrike">
              <a:solidFill>
                <a:srgbClr val="ffcc66"/>
              </a:solidFill>
              <a:latin typeface="Times New Roman"/>
            </a:endParaRPr>
          </a:p>
        </p:txBody>
      </p:sp>
      <p:graphicFrame>
        <p:nvGraphicFramePr>
          <p:cNvPr id="131" name=""/>
          <p:cNvGraphicFramePr/>
          <p:nvPr/>
        </p:nvGraphicFramePr>
        <p:xfrm>
          <a:off x="685800" y="1752480"/>
          <a:ext cx="7772400" cy="4246560"/>
        </p:xfrm>
        <a:graphic>
          <a:graphicData uri="http://schemas.openxmlformats.org/drawingml/2006/table">
            <a:tbl>
              <a:tblPr/>
              <a:tblGrid>
                <a:gridCol w="155412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0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3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oint to stated pictures, words, phra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one-step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oral statements to objects, figures, or illustra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ort pictures, objects accordin to oral instru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two-step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information from oral descriptions to objects, illustration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ocate, select, order information from oral descriptions.</a:t>
                      </a:r>
                      <a:br>
                        <a:rPr sz="1200"/>
                      </a:br>
                      <a:r>
                        <a:rPr b="1" lang="en-US" sz="1200" spc="-1" strike="noStrike">
                          <a:solidFill>
                            <a:srgbClr val="ffffff"/>
                          </a:solidFill>
                          <a:latin typeface="Arial"/>
                        </a:rPr>
                        <a:t>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multi-step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ategorize or sequence oral information using pictures, objectiv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mpare and contrast functions or relationships from oral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nalyze and applu oral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cause and effect from oral discour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conclusions or infer from oral information.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nstruct models. Based on oral discourse.</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ke connections between ideas based on oral discour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eaking Domain</a:t>
            </a:r>
            <a:endParaRPr b="0" lang="en-US" sz="4400" spc="-1" strike="noStrike">
              <a:solidFill>
                <a:srgbClr val="ffcc66"/>
              </a:solidFill>
              <a:latin typeface="Times New Roman"/>
            </a:endParaRPr>
          </a:p>
        </p:txBody>
      </p:sp>
      <p:graphicFrame>
        <p:nvGraphicFramePr>
          <p:cNvPr id="133" name=""/>
          <p:cNvGraphicFramePr/>
          <p:nvPr/>
        </p:nvGraphicFramePr>
        <p:xfrm>
          <a:off x="685800" y="1828800"/>
          <a:ext cx="7748640" cy="3992400"/>
        </p:xfrm>
        <a:graphic>
          <a:graphicData uri="http://schemas.openxmlformats.org/drawingml/2006/table">
            <a:tbl>
              <a:tblPr/>
              <a:tblGrid>
                <a:gridCol w="153036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864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Name objects, people and pictur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nswer wh-(who, what, when) or choice question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sk wh- or choice ques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scribe pictures, events, objects, people.</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state facts or statement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rmulate hypotheses, make predi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cribe processes, procedur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tell stories or event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iscuss stories, issues, concept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ive speeches, oral repor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Offer creative solutions to issues, problem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ngage in deb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xplain phenomena, give examples, and justify response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xpress and defend points of view.</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ing Domain</a:t>
            </a:r>
            <a:endParaRPr b="0" lang="en-US" sz="4400" spc="-1" strike="noStrike">
              <a:solidFill>
                <a:srgbClr val="ffcc66"/>
              </a:solidFill>
              <a:latin typeface="Times New Roman"/>
            </a:endParaRPr>
          </a:p>
        </p:txBody>
      </p:sp>
      <p:graphicFrame>
        <p:nvGraphicFramePr>
          <p:cNvPr id="135" name=""/>
          <p:cNvGraphicFramePr/>
          <p:nvPr/>
        </p:nvGraphicFramePr>
        <p:xfrm>
          <a:off x="685800" y="1741320"/>
          <a:ext cx="7748640" cy="3992760"/>
        </p:xfrm>
        <a:graphic>
          <a:graphicData uri="http://schemas.openxmlformats.org/drawingml/2006/table">
            <a:tbl>
              <a:tblPr/>
              <a:tblGrid>
                <a:gridCol w="153036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936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icons aqnd symbols to words, phrases, or environmental print.</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concepts about print and text featur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ocate and classify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facts and explicit messag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elect language patterns associated with fact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equence pictures, events, proces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main idea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Use context clues to determine the meaning of word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nterpret information or data.</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ind details that support main idea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word families, figures of speech.</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lean information from multiple sourc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conclusions or infer from explicit and implicit tex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riting Domain</a:t>
            </a:r>
            <a:endParaRPr b="0" lang="en-US" sz="4400" spc="-1" strike="noStrike">
              <a:solidFill>
                <a:srgbClr val="ffcc66"/>
              </a:solidFill>
              <a:latin typeface="Times New Roman"/>
            </a:endParaRPr>
          </a:p>
        </p:txBody>
      </p:sp>
      <p:graphicFrame>
        <p:nvGraphicFramePr>
          <p:cNvPr id="137" name=""/>
          <p:cNvGraphicFramePr/>
          <p:nvPr/>
        </p:nvGraphicFramePr>
        <p:xfrm>
          <a:off x="685800" y="1752480"/>
          <a:ext cx="7772400" cy="3992760"/>
        </p:xfrm>
        <a:graphic>
          <a:graphicData uri="http://schemas.openxmlformats.org/drawingml/2006/table">
            <a:tbl>
              <a:tblPr/>
              <a:tblGrid>
                <a:gridCol w="155412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936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in response to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abel objects, pictures and diagram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icons, symbols, words, to convey messag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ke lis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drawings, phrases, short sentences, no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ive information requested from oral or written direction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bare-bones, expository or narrative tex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mpare/contrast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scribe events, people processes, procedu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ummarize information from graphics or no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dit and revise writing.</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reate original ideas or detailed response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pply information to new context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act to multiple genres and discour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uthor multiple forms of writing.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to all five English-Language proficiency standard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with performance standards. </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for classroom teacher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s that students may be identify various levels of language proficiency.</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grade cluster specific PreK-K, Grades 1-2, Grade 3-5, Grades 6-8, Grades 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1828440"/>
            <a:ext cx="7772400" cy="4343400"/>
          </a:xfrm>
          <a:prstGeom prst="rect">
            <a:avLst/>
          </a:prstGeom>
          <a:noFill/>
          <a:ln w="0">
            <a:noFill/>
          </a:ln>
        </p:spPr>
        <p:txBody>
          <a:bodyPr anchor="t">
            <a:normAutofit/>
          </a:bodyPr>
          <a:p>
            <a:pPr marL="609480" indent="-6094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n-Do Descriptors work in conjunction with the WIDA Definitions of the English language proficiency.</a:t>
            </a:r>
            <a:endParaRPr b="0" lang="en-US" sz="20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Definitions Use 3 Criteria</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guistic complexity</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 usage</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control.</a:t>
            </a:r>
            <a:endParaRPr b="0" lang="en-US" sz="2400" spc="-1" strike="noStrike">
              <a:solidFill>
                <a:srgbClr val="ffffff"/>
              </a:solidFill>
              <a:latin typeface="Arial"/>
            </a:endParaRPr>
          </a:p>
          <a:p>
            <a:pPr marL="609480" indent="-6094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scribe the increasing quality of students’ language processing and use across the level of language proficien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828440"/>
            <a:ext cx="7772400" cy="4343400"/>
          </a:xfrm>
          <a:prstGeom prst="rect">
            <a:avLst/>
          </a:prstGeom>
          <a:noFill/>
          <a:ln w="0">
            <a:noFill/>
          </a:ln>
        </p:spPr>
        <p:txBody>
          <a:bodyPr anchor="t">
            <a:normAutofit/>
          </a:bodyPr>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look at the Can-Do Descriptors by grade level clusters. PreK-K, Grade 1-2, Grades 3-5, Grades 6-8, Grades 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ffcc66"/>
                </a:solidFill>
                <a:latin typeface="Times New Roman"/>
              </a:rPr>
              <a:t>Topics and Genres: Content Related to WIDA’s English Language Proficiency Standards.</a:t>
            </a:r>
            <a:br>
              <a:rPr sz="2800"/>
            </a:br>
            <a:endParaRPr b="0" lang="en-US" sz="2800" spc="-1" strike="noStrike">
              <a:solidFill>
                <a:srgbClr val="ffcc66"/>
              </a:solidFill>
              <a:latin typeface="Times New Roman"/>
            </a:endParaRPr>
          </a:p>
        </p:txBody>
      </p:sp>
      <p:graphicFrame>
        <p:nvGraphicFramePr>
          <p:cNvPr id="145" name=""/>
          <p:cNvGraphicFramePr/>
          <p:nvPr/>
        </p:nvGraphicFramePr>
        <p:xfrm>
          <a:off x="685800" y="1676520"/>
          <a:ext cx="7772400" cy="4500360"/>
        </p:xfrm>
        <a:graphic>
          <a:graphicData uri="http://schemas.openxmlformats.org/drawingml/2006/table">
            <a:tbl>
              <a:tblPr/>
              <a:tblGrid>
                <a:gridCol w="1523880"/>
                <a:gridCol w="1676520"/>
                <a:gridCol w="1600200"/>
                <a:gridCol w="1523880"/>
                <a:gridCol w="1447920"/>
              </a:tblGrid>
              <a:tr h="860040">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1: Social &amp; Instructional Language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2:</a:t>
                      </a:r>
                      <a:endParaRPr b="0" lang="en-US" sz="1300" spc="-1" strike="noStrike">
                        <a:solidFill>
                          <a:srgbClr val="ffffff"/>
                        </a:solidFill>
                        <a:latin typeface="Arial"/>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he language of Language Art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3: The language of Mathematic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4: The language of Scienc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 5: The language of Social Studi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18040">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r>
                        <a:rPr b="1" i="1" lang="en-US" sz="1400" spc="-1" strike="noStrike">
                          <a:solidFill>
                            <a:srgbClr val="ffffff"/>
                          </a:solidFill>
                          <a:latin typeface="Arial"/>
                        </a:rPr>
                        <a:t>:</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ssrooms </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or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eling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m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amp; Safet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i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ool</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f &amp; Famil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cial Behavior</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sic &amp; Movemen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lkta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etr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nic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mopho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d Famili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y Telling</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le Playing</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ction</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fiction</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tern Books/Predictable boo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g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s of 2 &amp; 3 dimensional shap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Mone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imal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ction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ric</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whole no.</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al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oms &amp; molecu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teria to plants </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y system &amp; organ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building block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mate/Temperature</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mate Zo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ssroom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480">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K-K</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 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s 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s 9-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88"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ed English Proficient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whose native language is one other than English and is limited in any area of listening, speaking, reading, writing, or comprehension of Engl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0"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lingual</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communicate in two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2"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Class Instructional Design and Assessm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A is a consortium of states (Wisconsin included) dedicated to the design implementation of high standards and equitable educational opportunities for English Language Lear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4" name="PlaceHolder 2"/>
          <p:cNvSpPr>
            <a:spLocks noGrp="1"/>
          </p:cNvSpPr>
          <p:nvPr>
            <p:ph/>
          </p:nvPr>
        </p:nvSpPr>
        <p:spPr>
          <a:xfrm>
            <a:off x="685800" y="1828440"/>
            <a:ext cx="7772400" cy="434340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Do Descriptors</a:t>
            </a:r>
            <a:endParaRPr b="0" lang="en-US" sz="3200" spc="-1" strike="noStrike">
              <a:solidFill>
                <a:srgbClr val="ffffff"/>
              </a:solidFill>
              <a:latin typeface="Arial"/>
            </a:endParaRPr>
          </a:p>
          <a:p>
            <a:pPr marL="329040" indent="-32904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to support teachers by providing them with information on the language students are able to understand and produce in the classroom.  They expand the performance definitions by giving more specific information.  They are suggested indicators, which are given in the 4 language domains.  (Reading, writing, listening and speak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6"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el 1 Entering</a:t>
            </a:r>
            <a:endParaRPr b="0" lang="en-US" sz="36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rally a student will be at a level 1 if the pupil does not understand or speak English with the exception for a few isolated words or expressions.</a:t>
            </a:r>
            <a:br>
              <a:rPr sz="3600"/>
            </a:br>
            <a:r>
              <a:rPr b="0" lang="en-US" sz="3200" spc="-1" strike="noStrike">
                <a:solidFill>
                  <a:srgbClr val="000000"/>
                </a:solidFill>
                <a:latin typeface="Arial"/>
              </a:rPr>
              <a:t> </a:t>
            </a:r>
            <a:r>
              <a:rPr b="1" lang="en-US" sz="1800" spc="-1" strike="noStrike">
                <a:solidFill>
                  <a:srgbClr val="ffffff"/>
                </a:solidFill>
                <a:latin typeface="Arial"/>
              </a:rPr>
              <a:t>PI 13.08(3)(1)-(6), Wisconsin Administrative R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2 Beginning</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understands and speaks conversational &amp; academic English with hesitancy and difficulty.  The student understands parts of lessons and simple directions.  The student is at a pre-emergent or emergent level of reading and writing in English, significantly below grade level.</a:t>
            </a:r>
            <a:br>
              <a:rPr sz="3200"/>
            </a:br>
            <a:r>
              <a:rPr b="0" lang="en-US" sz="3200" spc="-1" strike="noStrike">
                <a:solidFill>
                  <a:srgbClr val="ffffff"/>
                </a:solidFill>
                <a:latin typeface="Arial"/>
              </a:rPr>
              <a:t> </a:t>
            </a: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3 Developing</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understands and speaks conversational and academic English with decreasing hesitancy and difficulty.  The student is developing reading comprehension and writing skills in English.  The student English literacy skills allow the student to demonstrate academic knowledge in content areas with assistance. </a:t>
            </a:r>
            <a:br>
              <a:rPr sz="3200"/>
            </a:b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0:53:27Z</dcterms:created>
  <dc:creator>Wendy Wegenke</dc:creator>
  <dc:description/>
  <dc:language>en-US</dc:language>
  <cp:lastModifiedBy>Wendy Wegenke</cp:lastModifiedBy>
  <dcterms:modified xsi:type="dcterms:W3CDTF">2010-10-11T16:27:20Z</dcterms:modified>
  <cp:revision>75</cp:revision>
  <dc:subject/>
  <dc:title>English Language Proficiency</dc:title>
</cp:coreProperties>
</file>