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84D4E-6F75-45C7-9645-7CF7F251F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A61BC-5FA0-44AB-8DE1-3DC11A9DC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72703-9CEC-49EC-A8D6-CA1407655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33005-AB62-4DEE-B1D2-22426710B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DFE2C-AA54-4718-BDCF-BAE78507D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D605E-BC9B-47C1-8057-5A1877330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192A7-9EAB-4269-A3B7-0B9B9F937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C3DB7-7C70-44F0-87A5-DAFD7C42B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D956E-3776-4285-8601-E215B5CF4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13DC8-1A50-4C2D-8A8A-68CB57D59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7D3D-A7B9-4CC3-B765-91B247CBF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F5464-B855-47AE-8A1F-2A317768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B1872-3459-46D0-8907-041CFDD40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DDCE5-407F-4650-96B4-3FCBEB289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6D08F-99DB-4EBC-84B2-9C21CF68B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A71A3-E639-45F2-A12C-F293816DB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C8CC8-65AB-4259-BFA7-D9E3AE764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92A6-2AE0-459A-8EEE-3012611DA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A6F8-047D-46E9-AEBC-C9689B19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DFD55-DBDC-4400-8AD5-E806C4C3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35B1-A0BD-417F-818D-38C9BD3E9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813E-9FFB-4111-AA56-90A5E77F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9914-1BEE-4598-9754-F7FA37CBA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8B94-85B0-4D96-B5B8-955F1926A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B400-E061-405F-8591-7E48CD2287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A431-45B2-4C90-8CC9-54BE901EB2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0"/>
            <a:ext cx="77724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nglish Language Proficiency</a:t>
            </a:r>
            <a:endParaRPr b="0" lang="en-US" sz="4400" spc="-1" strike="noStrike">
              <a:solidFill>
                <a:srgbClr val="ffcc66"/>
              </a:solidFill>
              <a:latin typeface="Times New Roman"/>
            </a:endParaRPr>
          </a:p>
        </p:txBody>
      </p:sp>
      <p:sp>
        <p:nvSpPr>
          <p:cNvPr id="83" name="PlaceHolder 2"/>
          <p:cNvSpPr>
            <a:spLocks noGrp="1"/>
          </p:cNvSpPr>
          <p:nvPr>
            <p:ph type="subTitle"/>
          </p:nvPr>
        </p:nvSpPr>
        <p:spPr>
          <a:xfrm>
            <a:off x="685800" y="3352320"/>
            <a:ext cx="7772400" cy="1219320"/>
          </a:xfrm>
          <a:prstGeom prst="rect">
            <a:avLst/>
          </a:prstGeom>
          <a:noFill/>
          <a:ln w="0">
            <a:noFill/>
          </a:ln>
        </p:spPr>
        <p:txBody>
          <a:bodyPr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ndy Wegenk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SA 2, March 17, 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4 Expanding</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nds and speaks conversational English without apparent difficulty, but understands and speaks academic English with some hesitancy. The students continues to acquire reading &amp; writing skills in content areas needed to achieve grade level expectations with assistance.</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5 - Bridg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tudent understaqnds and speaks conversational and academic English well.  The student is near proficient in reading, writing, and content area skills needed to meet grade level expectations.  The student requires occasional support.</a:t>
            </a:r>
            <a:endParaRPr b="0" lang="en-US" sz="3200" spc="-1" strike="noStrike">
              <a:solidFill>
                <a:srgbClr val="ffffff"/>
              </a:solidFill>
              <a:latin typeface="Arial"/>
            </a:endParaRPr>
          </a:p>
          <a:p>
            <a:pPr marL="343080" indent="-34308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
        <p:nvSpPr>
          <p:cNvPr id="105" name="Ink 4"/>
          <p:cNvSpPr/>
          <p:nvPr/>
        </p:nvSpPr>
        <p:spPr>
          <a:xfrm>
            <a:off x="1785960" y="4527720"/>
            <a:ext cx="1440" cy="1440"/>
          </a:xfrm>
          <a:custGeom>
            <a:avLst/>
            <a:gdLst/>
            <a:ahLst/>
            <a:rect l="l" t="t" r="r" b="b"/>
            <a:pathLst>
              <a:path w="1" h="1">
                <a:moveTo>
                  <a:pt x="4961" y="12576"/>
                </a:moveTo>
                <a:lnTo>
                  <a:pt x="4961" y="12576"/>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 Language Domains</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Listen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Speaking</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Reading </a:t>
            </a:r>
            <a:endParaRPr b="0" lang="en-US" sz="4800" spc="-1" strike="noStrike">
              <a:solidFill>
                <a:srgbClr val="ffffff"/>
              </a:solidFill>
              <a:latin typeface="Arial"/>
            </a:endParaRPr>
          </a:p>
          <a:p>
            <a:pPr marL="343080" indent="-343080">
              <a:lnSpc>
                <a:spcPct val="9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Writing</a:t>
            </a:r>
            <a:endParaRPr b="0" lang="en-US" sz="4800" spc="-1" strike="noStrike">
              <a:solidFill>
                <a:srgbClr val="ffffff"/>
              </a:solidFill>
              <a:latin typeface="Arial"/>
            </a:endParaRPr>
          </a:p>
        </p:txBody>
      </p:sp>
      <p:sp>
        <p:nvSpPr>
          <p:cNvPr id="108" name="Ink 4"/>
          <p:cNvSpPr/>
          <p:nvPr/>
        </p:nvSpPr>
        <p:spPr>
          <a:xfrm>
            <a:off x="3224160" y="44280"/>
            <a:ext cx="34920" cy="71640"/>
          </a:xfrm>
          <a:custGeom>
            <a:avLst/>
            <a:gdLst/>
            <a:ahLst/>
            <a:rect l="l" t="t" r="r" b="b"/>
            <a:pathLst>
              <a:path w="101" h="199">
                <a:moveTo>
                  <a:pt x="8954" y="124"/>
                </a:moveTo>
                <a:cubicBezTo>
                  <a:pt x="8954" y="186"/>
                  <a:pt x="8969" y="230"/>
                  <a:pt x="9004" y="273"/>
                </a:cubicBezTo>
                <a:cubicBezTo>
                  <a:pt x="9043" y="311"/>
                  <a:pt x="9060" y="343"/>
                  <a:pt x="9054" y="298"/>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109" name="Ink 5"/>
          <p:cNvSpPr/>
          <p:nvPr/>
        </p:nvSpPr>
        <p:spPr>
          <a:xfrm>
            <a:off x="5027760" y="0"/>
            <a:ext cx="9360" cy="19080"/>
          </a:xfrm>
          <a:custGeom>
            <a:avLst/>
            <a:gdLst/>
            <a:ahLst/>
            <a:rect l="l" t="t" r="r" b="b"/>
            <a:pathLst>
              <a:path w="26" h="51">
                <a:moveTo>
                  <a:pt x="13965" y="50"/>
                </a:moveTo>
                <a:cubicBezTo>
                  <a:pt x="13965" y="22"/>
                  <a:pt x="13967" y="11"/>
                  <a:pt x="13990" y="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676520"/>
            <a:ext cx="77724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stening</a:t>
            </a:r>
            <a:endParaRPr b="0" lang="en-US" sz="32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conclusions from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nd apply oral inform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 oral statements to objects, figures or illustr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cause and effect from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t pictures, objects according to oral instruc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 models based on oral discour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 select, order information from oral descrip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 multi-step oral directions.</a:t>
            </a:r>
            <a:endParaRPr b="0" lang="en-US" sz="2400" spc="-1" strike="noStrike">
              <a:solidFill>
                <a:srgbClr val="ffffff"/>
              </a:solidFill>
              <a:latin typeface="Arial"/>
            </a:endParaRPr>
          </a:p>
        </p:txBody>
      </p:sp>
      <p:sp>
        <p:nvSpPr>
          <p:cNvPr id="112" name="Ink 4"/>
          <p:cNvSpPr/>
          <p:nvPr/>
        </p:nvSpPr>
        <p:spPr>
          <a:xfrm>
            <a:off x="1357200" y="4822920"/>
            <a:ext cx="1800" cy="1440"/>
          </a:xfrm>
          <a:custGeom>
            <a:avLst/>
            <a:gdLst/>
            <a:ahLst/>
            <a:rect l="l" t="t" r="r" b="b"/>
            <a:pathLst>
              <a:path w="1" h="1">
                <a:moveTo>
                  <a:pt x="3770" y="13395"/>
                </a:moveTo>
                <a:lnTo>
                  <a:pt x="3770" y="13395"/>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Ink 5"/>
          <p:cNvSpPr/>
          <p:nvPr/>
        </p:nvSpPr>
        <p:spPr>
          <a:xfrm>
            <a:off x="1401840" y="3902040"/>
            <a:ext cx="125280" cy="214200"/>
          </a:xfrm>
          <a:custGeom>
            <a:avLst/>
            <a:gdLst/>
            <a:ahLst/>
            <a:rect l="l" t="t" r="r" b="b"/>
            <a:pathLst>
              <a:path w="349" h="596">
                <a:moveTo>
                  <a:pt x="4167" y="11435"/>
                </a:moveTo>
                <a:cubicBezTo>
                  <a:pt x="4167" y="11376"/>
                  <a:pt x="4157" y="11357"/>
                  <a:pt x="4142" y="11311"/>
                </a:cubicBezTo>
                <a:cubicBezTo>
                  <a:pt x="4136" y="11293"/>
                  <a:pt x="4105" y="11220"/>
                  <a:pt x="4093" y="11212"/>
                </a:cubicBezTo>
                <a:cubicBezTo>
                  <a:pt x="4068" y="11196"/>
                  <a:pt x="4048" y="11199"/>
                  <a:pt x="4043" y="11162"/>
                </a:cubicBezTo>
                <a:cubicBezTo>
                  <a:pt x="4039" y="11130"/>
                  <a:pt x="4043" y="11095"/>
                  <a:pt x="4043" y="11063"/>
                </a:cubicBezTo>
                <a:cubicBezTo>
                  <a:pt x="4054" y="11097"/>
                  <a:pt x="4078" y="11093"/>
                  <a:pt x="4093" y="11137"/>
                </a:cubicBezTo>
                <a:cubicBezTo>
                  <a:pt x="4106" y="11177"/>
                  <a:pt x="4108" y="11197"/>
                  <a:pt x="4118" y="11237"/>
                </a:cubicBezTo>
                <a:cubicBezTo>
                  <a:pt x="4118" y="11278"/>
                  <a:pt x="4118" y="11286"/>
                  <a:pt x="4118" y="11311"/>
                </a:cubicBezTo>
                <a:cubicBezTo>
                  <a:pt x="4108" y="11218"/>
                  <a:pt x="4079" y="11126"/>
                  <a:pt x="4043" y="11038"/>
                </a:cubicBezTo>
                <a:cubicBezTo>
                  <a:pt x="4031" y="11008"/>
                  <a:pt x="3986" y="10879"/>
                  <a:pt x="3969" y="10864"/>
                </a:cubicBezTo>
                <a:cubicBezTo>
                  <a:pt x="3944" y="10864"/>
                  <a:pt x="3936" y="10864"/>
                  <a:pt x="3944" y="10840"/>
                </a:cubicBezTo>
                <a:cubicBezTo>
                  <a:pt x="3915" y="10877"/>
                  <a:pt x="3919" y="10891"/>
                  <a:pt x="3919" y="10939"/>
                </a:cubicBezTo>
                <a:cubicBezTo>
                  <a:pt x="3919" y="11007"/>
                  <a:pt x="3927" y="11055"/>
                  <a:pt x="3944" y="11112"/>
                </a:cubicBezTo>
                <a:cubicBezTo>
                  <a:pt x="3956" y="11153"/>
                  <a:pt x="3944" y="11217"/>
                  <a:pt x="3944" y="11261"/>
                </a:cubicBezTo>
                <a:cubicBezTo>
                  <a:pt x="3944" y="11210"/>
                  <a:pt x="3929" y="11208"/>
                  <a:pt x="3919" y="11187"/>
                </a:cubicBezTo>
                <a:cubicBezTo>
                  <a:pt x="3905" y="11159"/>
                  <a:pt x="3949" y="11037"/>
                  <a:pt x="3894" y="11038"/>
                </a:cubicBezTo>
                <a:cubicBezTo>
                  <a:pt x="3876" y="11038"/>
                  <a:pt x="3948" y="11063"/>
                  <a:pt x="3969" y="11063"/>
                </a:cubicBezTo>
                <a:cubicBezTo>
                  <a:pt x="4037" y="11063"/>
                  <a:pt x="4086" y="11057"/>
                  <a:pt x="4142" y="11038"/>
                </a:cubicBezTo>
                <a:cubicBezTo>
                  <a:pt x="4177" y="11026"/>
                  <a:pt x="4166" y="10994"/>
                  <a:pt x="4217" y="10988"/>
                </a:cubicBezTo>
                <a:cubicBezTo>
                  <a:pt x="4225" y="10988"/>
                  <a:pt x="4234" y="10988"/>
                  <a:pt x="4242" y="10988"/>
                </a:cubicBezTo>
                <a:cubicBezTo>
                  <a:pt x="4232" y="11027"/>
                  <a:pt x="4209" y="11041"/>
                  <a:pt x="4192" y="11063"/>
                </a:cubicBezTo>
                <a:cubicBezTo>
                  <a:pt x="4168" y="11096"/>
                  <a:pt x="4153" y="11088"/>
                  <a:pt x="4118" y="11088"/>
                </a:cubicBezTo>
                <a:cubicBezTo>
                  <a:pt x="4105" y="11050"/>
                  <a:pt x="4096" y="11059"/>
                  <a:pt x="4068" y="11038"/>
                </a:cubicBezTo>
                <a:cubicBezTo>
                  <a:pt x="4045" y="11015"/>
                  <a:pt x="4041" y="11007"/>
                  <a:pt x="4018" y="110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Listening</a:t>
            </a:r>
            <a:endParaRPr b="0" lang="en-US" sz="4400" spc="-1" strike="noStrike">
              <a:solidFill>
                <a:srgbClr val="ffcc66"/>
              </a:solidFill>
              <a:latin typeface="Times New Roman"/>
            </a:endParaRPr>
          </a:p>
        </p:txBody>
      </p:sp>
      <p:sp>
        <p:nvSpPr>
          <p:cNvPr id="115" name="PlaceHolder 2"/>
          <p:cNvSpPr>
            <a:spLocks noGrp="1"/>
          </p:cNvSpPr>
          <p:nvPr>
            <p:ph/>
          </p:nvPr>
        </p:nvSpPr>
        <p:spPr>
          <a:xfrm>
            <a:off x="685440" y="1676520"/>
            <a:ext cx="84582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stening</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400" spc="-1" strike="noStrike">
                <a:solidFill>
                  <a:srgbClr val="ffffff"/>
                </a:solidFill>
                <a:latin typeface="Arial"/>
              </a:rPr>
              <a:t>Point to state pictures words &amp; phrase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raw conclusions from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nalyze and apply oral informatio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tch oral statements to objects, figures or illustra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Identify cause and effect from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ort pictures, objects according to oral instruc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onstruct models based on oral discours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cate, select, order information from oral descriptions.</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llow multi-step oral directions.</a:t>
            </a:r>
            <a:endParaRPr b="0" lang="en-US" sz="2400" spc="-1" strike="noStrike">
              <a:solidFill>
                <a:srgbClr val="ffffff"/>
              </a:solidFill>
              <a:latin typeface="Arial"/>
            </a:endParaRPr>
          </a:p>
        </p:txBody>
      </p:sp>
      <p:sp>
        <p:nvSpPr>
          <p:cNvPr id="116" name="Ink 4"/>
          <p:cNvSpPr/>
          <p:nvPr/>
        </p:nvSpPr>
        <p:spPr>
          <a:xfrm>
            <a:off x="965160" y="4911840"/>
            <a:ext cx="623880" cy="374400"/>
          </a:xfrm>
          <a:custGeom>
            <a:avLst/>
            <a:gdLst/>
            <a:ahLst/>
            <a:rect l="l" t="t" r="r" b="b"/>
            <a:pathLst>
              <a:path w="1737" h="1042">
                <a:moveTo>
                  <a:pt x="3845" y="13940"/>
                </a:moveTo>
                <a:cubicBezTo>
                  <a:pt x="3839" y="13898"/>
                  <a:pt x="3841" y="13891"/>
                  <a:pt x="3820" y="13866"/>
                </a:cubicBezTo>
                <a:cubicBezTo>
                  <a:pt x="3795" y="13837"/>
                  <a:pt x="3737" y="13809"/>
                  <a:pt x="3721" y="13791"/>
                </a:cubicBezTo>
                <a:cubicBezTo>
                  <a:pt x="3670" y="13732"/>
                  <a:pt x="3695" y="13727"/>
                  <a:pt x="3621" y="13717"/>
                </a:cubicBezTo>
                <a:cubicBezTo>
                  <a:pt x="3549" y="13708"/>
                  <a:pt x="3553" y="13733"/>
                  <a:pt x="3497" y="13767"/>
                </a:cubicBezTo>
                <a:cubicBezTo>
                  <a:pt x="3453" y="13793"/>
                  <a:pt x="3386" y="13806"/>
                  <a:pt x="3349" y="13841"/>
                </a:cubicBezTo>
                <a:cubicBezTo>
                  <a:pt x="3297" y="13890"/>
                  <a:pt x="3254" y="13911"/>
                  <a:pt x="3175" y="13915"/>
                </a:cubicBezTo>
                <a:cubicBezTo>
                  <a:pt x="3098" y="13919"/>
                  <a:pt x="3142" y="13950"/>
                  <a:pt x="3076" y="13965"/>
                </a:cubicBezTo>
                <a:cubicBezTo>
                  <a:pt x="3022" y="13977"/>
                  <a:pt x="3025" y="13986"/>
                  <a:pt x="2977" y="14015"/>
                </a:cubicBezTo>
                <a:cubicBezTo>
                  <a:pt x="2940" y="14038"/>
                  <a:pt x="2880" y="14101"/>
                  <a:pt x="2853" y="14114"/>
                </a:cubicBezTo>
                <a:cubicBezTo>
                  <a:pt x="2790" y="14143"/>
                  <a:pt x="2766" y="14145"/>
                  <a:pt x="2729" y="14213"/>
                </a:cubicBezTo>
                <a:cubicBezTo>
                  <a:pt x="2705" y="14256"/>
                  <a:pt x="2666" y="14303"/>
                  <a:pt x="2679" y="14362"/>
                </a:cubicBezTo>
                <a:cubicBezTo>
                  <a:pt x="2688" y="14404"/>
                  <a:pt x="2717" y="14443"/>
                  <a:pt x="2729" y="14461"/>
                </a:cubicBezTo>
                <a:cubicBezTo>
                  <a:pt x="2749" y="14490"/>
                  <a:pt x="2742" y="14522"/>
                  <a:pt x="2778" y="14560"/>
                </a:cubicBezTo>
                <a:cubicBezTo>
                  <a:pt x="2824" y="14609"/>
                  <a:pt x="2937" y="14674"/>
                  <a:pt x="3001" y="14684"/>
                </a:cubicBezTo>
                <a:cubicBezTo>
                  <a:pt x="3178" y="14713"/>
                  <a:pt x="3974" y="14781"/>
                  <a:pt x="4142" y="14660"/>
                </a:cubicBezTo>
                <a:cubicBezTo>
                  <a:pt x="4174" y="14637"/>
                  <a:pt x="4219" y="14612"/>
                  <a:pt x="4242" y="14585"/>
                </a:cubicBezTo>
                <a:cubicBezTo>
                  <a:pt x="4269" y="14553"/>
                  <a:pt x="4329" y="14490"/>
                  <a:pt x="4341" y="14461"/>
                </a:cubicBezTo>
                <a:cubicBezTo>
                  <a:pt x="4357" y="14421"/>
                  <a:pt x="4403" y="14350"/>
                  <a:pt x="4415" y="14312"/>
                </a:cubicBezTo>
                <a:cubicBezTo>
                  <a:pt x="4435" y="14245"/>
                  <a:pt x="4405" y="14169"/>
                  <a:pt x="4390" y="14139"/>
                </a:cubicBezTo>
                <a:cubicBezTo>
                  <a:pt x="4365" y="14091"/>
                  <a:pt x="4355" y="14098"/>
                  <a:pt x="4316" y="14064"/>
                </a:cubicBezTo>
                <a:cubicBezTo>
                  <a:pt x="4270" y="14024"/>
                  <a:pt x="4226" y="13944"/>
                  <a:pt x="4192" y="13915"/>
                </a:cubicBezTo>
                <a:cubicBezTo>
                  <a:pt x="4164" y="13891"/>
                  <a:pt x="4130" y="13883"/>
                  <a:pt x="4118" y="13866"/>
                </a:cubicBezTo>
                <a:cubicBezTo>
                  <a:pt x="4104" y="13846"/>
                  <a:pt x="4082" y="13773"/>
                  <a:pt x="4043" y="13767"/>
                </a:cubicBezTo>
                <a:cubicBezTo>
                  <a:pt x="4015" y="13763"/>
                  <a:pt x="3934" y="13800"/>
                  <a:pt x="3919" y="13816"/>
                </a:cubicBezTo>
                <a:cubicBezTo>
                  <a:pt x="3883" y="13855"/>
                  <a:pt x="3876" y="13877"/>
                  <a:pt x="3820" y="13891"/>
                </a:cubicBezTo>
                <a:cubicBezTo>
                  <a:pt x="3795" y="13891"/>
                  <a:pt x="3787" y="13891"/>
                  <a:pt x="3770" y="13891"/>
                </a:cubicBezTo>
                <a:cubicBezTo>
                  <a:pt x="3751" y="13851"/>
                  <a:pt x="3732" y="13800"/>
                  <a:pt x="3696" y="13767"/>
                </a:cubicBezTo>
                <a:cubicBezTo>
                  <a:pt x="3658" y="13732"/>
                  <a:pt x="3590" y="13671"/>
                  <a:pt x="3547" y="13643"/>
                </a:cubicBezTo>
                <a:cubicBezTo>
                  <a:pt x="3539" y="13643"/>
                  <a:pt x="3530" y="13643"/>
                  <a:pt x="3522" y="136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ell stories and even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give examples, and justify respons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ing objects, people, pict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ictures, events, objects people.</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processes and procedur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 who, what, when, where question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stories, issues, concep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speech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age in debate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ate facts.</a:t>
            </a:r>
            <a:endParaRPr b="0" lang="en-US" sz="1800" spc="-1" strike="noStrike">
              <a:solidFill>
                <a:srgbClr val="ffffff"/>
              </a:solidFill>
              <a:latin typeface="Arial"/>
            </a:endParaRPr>
          </a:p>
          <a:p>
            <a:pPr lvl="1" marL="914400" indent="-457200">
              <a:lnSpc>
                <a:spcPct val="90000"/>
              </a:lnSpc>
              <a:spcBef>
                <a:spcPts val="45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ress and defend points of 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Speaking</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aking - </a:t>
            </a:r>
            <a:endParaRPr b="0" lang="en-US" sz="24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tell stories and even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lain give examples, and justify respons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Naming objects, people, pict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Describe pictures, events, objects people.</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processes and procedur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nswer - who, what, when, where question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iscuss stories, issues, concep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ive speech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ngage in debate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state facts.</a:t>
            </a:r>
            <a:endParaRPr b="0" lang="en-US" sz="1800" spc="-1" strike="noStrike">
              <a:solidFill>
                <a:srgbClr val="ffffff"/>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Express and defend points of view.</a:t>
            </a:r>
            <a:endParaRPr b="0" lang="en-US" sz="1800" spc="-1" strike="noStrike">
              <a:solidFill>
                <a:srgbClr val="ffffff"/>
              </a:solidFill>
              <a:latin typeface="Arial"/>
            </a:endParaRPr>
          </a:p>
        </p:txBody>
      </p:sp>
      <p:sp>
        <p:nvSpPr>
          <p:cNvPr id="121" name="Ink 4"/>
          <p:cNvSpPr/>
          <p:nvPr/>
        </p:nvSpPr>
        <p:spPr>
          <a:xfrm>
            <a:off x="2581200" y="1473120"/>
            <a:ext cx="1800" cy="9720"/>
          </a:xfrm>
          <a:custGeom>
            <a:avLst/>
            <a:gdLst/>
            <a:ahLst/>
            <a:rect l="l" t="t" r="r" b="b"/>
            <a:pathLst>
              <a:path w="1" h="26">
                <a:moveTo>
                  <a:pt x="7169" y="4118"/>
                </a:moveTo>
                <a:cubicBezTo>
                  <a:pt x="7169" y="4110"/>
                  <a:pt x="7169" y="4101"/>
                  <a:pt x="7169" y="4093"/>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ding -</a:t>
            </a:r>
            <a:r>
              <a:rPr b="1" lang="en-US" sz="1400" spc="-1" strike="noStrike">
                <a:solidFill>
                  <a:srgbClr val="ffffff"/>
                </a:solidFill>
                <a:latin typeface="Arial"/>
              </a:rPr>
              <a:t> </a:t>
            </a:r>
            <a:endParaRPr b="0" lang="en-US" sz="14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 icons, and symbols to words, phrases or environmental prin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d classify information.</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ain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 information or data.</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 conclusions from explicit and implicit text</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facts and explicit messag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oncepts about print and text feature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ntext clues to determine meaning of word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details that support mains ideas.</a:t>
            </a:r>
            <a:endParaRPr b="0" lang="en-US" sz="2000" spc="-1" strike="noStrike">
              <a:solidFill>
                <a:srgbClr val="ffffff"/>
              </a:solidFill>
              <a:latin typeface="Arial"/>
            </a:endParaRPr>
          </a:p>
          <a:p>
            <a:pPr lvl="1" marL="743040" indent="-28584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uct research 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 Reading </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600200"/>
            <a:ext cx="7772400" cy="46483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a:t>
            </a:r>
            <a:r>
              <a:rPr b="1" lang="en-US" sz="1200" spc="-1" strike="noStrike">
                <a:solidFill>
                  <a:srgbClr val="ffffff"/>
                </a:solidFill>
                <a:latin typeface="Arial"/>
              </a:rPr>
              <a:t> </a:t>
            </a:r>
            <a:endParaRPr b="0" lang="en-US" sz="12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400" spc="-1" strike="noStrike">
                <a:solidFill>
                  <a:srgbClr val="ffffff"/>
                </a:solidFill>
                <a:latin typeface="Arial"/>
              </a:rPr>
              <a:t>. </a:t>
            </a:r>
            <a:r>
              <a:rPr b="0" lang="en-US" sz="2000" spc="-1" strike="noStrike">
                <a:solidFill>
                  <a:srgbClr val="ffffff"/>
                </a:solidFill>
                <a:latin typeface="Arial"/>
              </a:rPr>
              <a:t>Sequence picture, events, process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tch icons, and symbols to words, phrases or environmental pri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ocate and classify inform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dentify main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Interpret information or dat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Draw conclusions from explicit and implicit tex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dentify facts and explicit messag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dentify concepts about print and text featur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Use context clues to determine meaning of word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ind details that support mains idea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onduct research</a:t>
            </a:r>
            <a:r>
              <a:rPr b="0" lang="en-US" sz="2400" spc="-1" strike="noStrike">
                <a:solidFill>
                  <a:srgbClr val="ffffff"/>
                </a:solidFill>
                <a:latin typeface="Arial"/>
              </a:rPr>
              <a:t> </a:t>
            </a:r>
            <a:r>
              <a:rPr b="0" lang="en-US" sz="2000" spc="-1" strike="noStrike">
                <a:solidFill>
                  <a:srgbClr val="ffffff"/>
                </a:solidFill>
                <a:latin typeface="Arial"/>
              </a:rPr>
              <a:t>to glean information from multiple 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60020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a:t>
            </a:r>
            <a:endParaRPr b="0" lang="en-US" sz="28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ct to multiple genres and discours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lis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 objects, picture and diagram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nd contrast information.</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drawings, phrases, short sentences, note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 and revise writing.</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y information to new contexts.</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original ideas or detailed response.</a:t>
            </a:r>
            <a:endParaRPr b="0" lang="en-US" sz="2000" spc="-1" strike="noStrike">
              <a:solidFill>
                <a:srgbClr val="ffffff"/>
              </a:solidFill>
              <a:latin typeface="Arial"/>
            </a:endParaRPr>
          </a:p>
          <a:p>
            <a:pPr lvl="1" marL="735480" indent="-28296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events, people, processes, procedures.</a:t>
            </a:r>
            <a:endParaRPr b="0" lang="en-US" sz="2000" spc="-1" strike="noStrike">
              <a:solidFill>
                <a:srgbClr val="ffffff"/>
              </a:solidFill>
              <a:latin typeface="Arial"/>
            </a:endParaRPr>
          </a:p>
          <a:p>
            <a:pPr lvl="1" marL="735480" indent="-28296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Does It Mean?</a:t>
            </a:r>
            <a:endParaRPr b="0" lang="en-US" sz="4400" spc="-1" strike="noStrike">
              <a:solidFill>
                <a:srgbClr val="ffcc66"/>
              </a:solidFill>
              <a:latin typeface="Times New Roman"/>
            </a:endParaRPr>
          </a:p>
        </p:txBody>
      </p:sp>
      <p:sp>
        <p:nvSpPr>
          <p:cNvPr id="85" name="PlaceHolder 2"/>
          <p:cNvSpPr>
            <a:spLocks noGrp="1"/>
          </p:cNvSpPr>
          <p:nvPr>
            <p:ph/>
          </p:nvPr>
        </p:nvSpPr>
        <p:spPr>
          <a:xfrm>
            <a:off x="685440" y="1828440"/>
            <a:ext cx="380988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h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ngual</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A</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p:txBody>
      </p:sp>
      <p:sp>
        <p:nvSpPr>
          <p:cNvPr id="86" name="PlaceHolder 3"/>
          <p:cNvSpPr>
            <a:spLocks noGrp="1"/>
          </p:cNvSpPr>
          <p:nvPr>
            <p:ph/>
          </p:nvPr>
        </p:nvSpPr>
        <p:spPr>
          <a:xfrm>
            <a:off x="3554280" y="1828440"/>
            <a:ext cx="4626000" cy="43434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o Descriptors</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ning</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Domains: Writing</a:t>
            </a:r>
            <a:endParaRPr b="0" lang="en-US" sz="4400" spc="-1" strike="noStrike">
              <a:solidFill>
                <a:srgbClr val="ffcc66"/>
              </a:solidFill>
              <a:latin typeface="Times New Roman"/>
            </a:endParaRPr>
          </a:p>
        </p:txBody>
      </p:sp>
      <p:sp>
        <p:nvSpPr>
          <p:cNvPr id="129"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a:t>
            </a:r>
            <a:endParaRPr b="0" lang="en-US" sz="24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React to multiple genres and discours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Make lis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Label objects, picture and diagram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Compare and contrast information.</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Produce drawings, phrases, short sentences, note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Edit and revise writing.</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pply information to new contexts.</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Create original ideas or detailed response.</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scribe events, people, processes, procedures.</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React to multiple genres and discour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istening Domain</a:t>
            </a:r>
            <a:endParaRPr b="0" lang="en-US" sz="4400" spc="-1" strike="noStrike">
              <a:solidFill>
                <a:srgbClr val="ffcc66"/>
              </a:solidFill>
              <a:latin typeface="Times New Roman"/>
            </a:endParaRPr>
          </a:p>
        </p:txBody>
      </p:sp>
      <p:graphicFrame>
        <p:nvGraphicFramePr>
          <p:cNvPr id="131" name=""/>
          <p:cNvGraphicFramePr/>
          <p:nvPr/>
        </p:nvGraphicFramePr>
        <p:xfrm>
          <a:off x="685800" y="1752480"/>
          <a:ext cx="7772400" cy="42465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0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oint to stated pictures, words, phra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one-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oral statements to objects, figures, or illustra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ort pictures, objects accordin to oral instru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two-step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nformation from oral descriptions to objects, illustration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select, order information from oral descriptions.</a:t>
                      </a:r>
                      <a:br>
                        <a:rPr sz="1200"/>
                      </a:br>
                      <a:r>
                        <a:rPr b="1" lang="en-US" sz="1200" spc="-1" strike="noStrike">
                          <a:solidFill>
                            <a:srgbClr val="ffffff"/>
                          </a:solidFill>
                          <a:latin typeface="Arial"/>
                        </a:rPr>
                        <a:t>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llow multi-step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ategorize or sequence oral information using pictures, objectiv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 and contrast functions or relationships from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alyze and applu oral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ause and effect from oral discour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oral information.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nstruct models. Based on oral discours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connections between ideas based on oral discour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eaking Domain</a:t>
            </a:r>
            <a:endParaRPr b="0" lang="en-US" sz="4400" spc="-1" strike="noStrike">
              <a:solidFill>
                <a:srgbClr val="ffcc66"/>
              </a:solidFill>
              <a:latin typeface="Times New Roman"/>
            </a:endParaRPr>
          </a:p>
        </p:txBody>
      </p:sp>
      <p:graphicFrame>
        <p:nvGraphicFramePr>
          <p:cNvPr id="133" name=""/>
          <p:cNvGraphicFramePr/>
          <p:nvPr/>
        </p:nvGraphicFramePr>
        <p:xfrm>
          <a:off x="685800" y="1828800"/>
          <a:ext cx="7748640" cy="399240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864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Name objects, people and pict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nswer wh-(who, what, when) or choice questio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sk wh- or choice ques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pictures, events, objects, people.</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state facts or statemen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ormulate hypotheses, make predi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cribe processes, procedur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tell stories or event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iscuss stories, issues, concep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speeches, oral repor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Offer creative solutions to issues, problem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ngage in deb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lain phenomena, give examples, and justify response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xpress and defend points of view.</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ing Domain</a:t>
            </a:r>
            <a:endParaRPr b="0" lang="en-US" sz="4400" spc="-1" strike="noStrike">
              <a:solidFill>
                <a:srgbClr val="ffcc66"/>
              </a:solidFill>
              <a:latin typeface="Times New Roman"/>
            </a:endParaRPr>
          </a:p>
        </p:txBody>
      </p:sp>
      <p:graphicFrame>
        <p:nvGraphicFramePr>
          <p:cNvPr id="135" name=""/>
          <p:cNvGraphicFramePr/>
          <p:nvPr/>
        </p:nvGraphicFramePr>
        <p:xfrm>
          <a:off x="685800" y="1741320"/>
          <a:ext cx="7748640" cy="3992760"/>
        </p:xfrm>
        <a:graphic>
          <a:graphicData uri="http://schemas.openxmlformats.org/drawingml/2006/table">
            <a:tbl>
              <a:tblPr/>
              <a:tblGrid>
                <a:gridCol w="153036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urriculum / 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tch icons aqnd symbols to words, phrases, or environmental print.</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concepts about print and text featur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ocate and classify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facts and explicit messag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lect language patterns associated with fact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equence pictures, events, proces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Use context clues to determine the meaning of word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nterpret information or data.</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ind details that support main idea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Identify word families, figures of speech.</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lean information from multiple sourc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conclusions or infer from explicit and implicit tex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riting Domain</a:t>
            </a:r>
            <a:endParaRPr b="0" lang="en-US" sz="4400" spc="-1" strike="noStrike">
              <a:solidFill>
                <a:srgbClr val="ffcc66"/>
              </a:solidFill>
              <a:latin typeface="Times New Roman"/>
            </a:endParaRPr>
          </a:p>
        </p:txBody>
      </p:sp>
      <p:graphicFrame>
        <p:nvGraphicFramePr>
          <p:cNvPr id="137" name=""/>
          <p:cNvGraphicFramePr/>
          <p:nvPr/>
        </p:nvGraphicFramePr>
        <p:xfrm>
          <a:off x="685800" y="1752480"/>
          <a:ext cx="7772400" cy="3992760"/>
        </p:xfrm>
        <a:graphic>
          <a:graphicData uri="http://schemas.openxmlformats.org/drawingml/2006/table">
            <a:tbl>
              <a:tblPr/>
              <a:tblGrid>
                <a:gridCol w="1554120"/>
                <a:gridCol w="1554120"/>
                <a:gridCol w="1555920"/>
                <a:gridCol w="1554120"/>
                <a:gridCol w="155412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ter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gi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velop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xpand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vel 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ridgin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ＭＳ Ｐゴシック"/>
                        </a:rPr>
                        <a:t>Activ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19360">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raw in response to oral direction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Label objects, pictures and diagram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icons, symbols, words, to convey messag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Make lis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drawings, phrases, short sentences,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ive information requested from oral or written direction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roduce bare-bones, expository or narrative text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ompare/contrast information.</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Describe events, people processes, procedur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Summarize information from graphics or not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Edit and revise writing.</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reate original ideas or detailed response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ly information to new contexts. </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React to multiple genres and discourses.</a:t>
                      </a: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uthor multiple forms of writing.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to all five English-Language proficiency standard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with performance standards. </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for classroom teacher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s that students may be identify various levels of language proficiency.</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grade cluster specific PreK-K, Grades 1-2, Grade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n-Do Descriptors work in conjunction with the WIDA Definitions of the English language proficiency.</a:t>
            </a:r>
            <a:endParaRPr b="0" lang="en-US" sz="20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Definitions Use 3 Criteria</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guistic complexity</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 usage</a:t>
            </a:r>
            <a:endParaRPr b="0" lang="en-US" sz="2400" spc="-1" strike="noStrike">
              <a:solidFill>
                <a:srgbClr val="ffffff"/>
              </a:solidFill>
              <a:latin typeface="Arial"/>
            </a:endParaRPr>
          </a:p>
          <a:p>
            <a:pPr lvl="1" marL="990720" indent="-533520">
              <a:lnSpc>
                <a:spcPct val="90000"/>
              </a:lnSpc>
              <a:spcBef>
                <a:spcPts val="601"/>
              </a:spcBef>
              <a:buClr>
                <a:srgbClr val="ffffff"/>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control.</a:t>
            </a:r>
            <a:endParaRPr b="0" lang="en-US" sz="2400" spc="-1" strike="noStrike">
              <a:solidFill>
                <a:srgbClr val="ffffff"/>
              </a:solidFill>
              <a:latin typeface="Arial"/>
            </a:endParaRPr>
          </a:p>
          <a:p>
            <a:pPr marL="609480" indent="-6094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scribe the increasing quality of students’ language processing and use across the level of language proficien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L Can-Do Descriptors </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828440"/>
            <a:ext cx="7772400" cy="4343400"/>
          </a:xfrm>
          <a:prstGeom prst="rect">
            <a:avLst/>
          </a:prstGeom>
          <a:noFill/>
          <a:ln w="0">
            <a:noFill/>
          </a:ln>
        </p:spPr>
        <p:txBody>
          <a:bodyPr anchor="t">
            <a:normAutofit/>
          </a:bodyPr>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look at the Can-Do Descriptors by grade level clusters. PreK-K, Grade 1-2, Grades 3-5, Grades 6-8, Grades 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cc66"/>
                </a:solidFill>
                <a:latin typeface="Times New Roman"/>
              </a:rPr>
              <a:t>Topics and Genres: Content Related to WIDA’s English Language Proficiency Standards.</a:t>
            </a:r>
            <a:br>
              <a:rPr sz="2800"/>
            </a:br>
            <a:endParaRPr b="0" lang="en-US" sz="2800" spc="-1" strike="noStrike">
              <a:solidFill>
                <a:srgbClr val="ffcc66"/>
              </a:solidFill>
              <a:latin typeface="Times New Roman"/>
            </a:endParaRPr>
          </a:p>
        </p:txBody>
      </p:sp>
      <p:graphicFrame>
        <p:nvGraphicFramePr>
          <p:cNvPr id="145" name=""/>
          <p:cNvGraphicFramePr/>
          <p:nvPr/>
        </p:nvGraphicFramePr>
        <p:xfrm>
          <a:off x="685800" y="1676520"/>
          <a:ext cx="7772400" cy="4500360"/>
        </p:xfrm>
        <a:graphic>
          <a:graphicData uri="http://schemas.openxmlformats.org/drawingml/2006/table">
            <a:tbl>
              <a:tblPr/>
              <a:tblGrid>
                <a:gridCol w="1523880"/>
                <a:gridCol w="1676520"/>
                <a:gridCol w="1600200"/>
                <a:gridCol w="1523880"/>
                <a:gridCol w="1447920"/>
              </a:tblGrid>
              <a:tr h="860040">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1: Social &amp; Instructional Language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2:</a:t>
                      </a:r>
                      <a:endParaRPr b="0" lang="en-US" sz="1300" spc="-1" strike="noStrike">
                        <a:solidFill>
                          <a:srgbClr val="ffffff"/>
                        </a:solidFill>
                        <a:latin typeface="Arial"/>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he language of Language Art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3: The language of Mathematic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andard 4: The language of Scienc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 5: The language of Social Studi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18040">
                <a:tc>
                  <a: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r>
                        <a:rPr b="1" i="1" lang="en-US" sz="1400" spc="-1" strike="noStrike">
                          <a:solidFill>
                            <a:srgbClr val="ffffff"/>
                          </a:solidFill>
                          <a:latin typeface="Arial"/>
                        </a:rPr>
                        <a:t>:</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or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eling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m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ygiene &amp; Safet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i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ool</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 &amp; Famil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cial Behavior</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sic &amp; Movemen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lkta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etr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nic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moph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d Famili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y Tell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le Playing</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fiction</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tern Books/Predictable book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g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s of 2 &amp; 3 dimensional shap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Money</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imal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ctio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ric</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whole no.</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a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oms &amp; molecul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teria to plants </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y system &amp; organ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building block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Temperature</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mate Zones</a:t>
                      </a:r>
                      <a:endParaRPr b="0" lang="en-US" sz="1400" spc="-1" strike="noStrike">
                        <a:solidFill>
                          <a:srgbClr val="ffffff"/>
                        </a:solidFill>
                        <a:latin typeface="Arial"/>
                      </a:endParaRPr>
                    </a:p>
                    <a:p>
                      <a:pPr>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Example Topics</a:t>
                      </a:r>
                      <a:endParaRPr b="0" lang="en-US" sz="13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ssroom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48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K-K</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es 9-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8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ed English Proficient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whose native language is one other than English and is limited in any area of listening, speaking, reading, writing, or comprehension of Engl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lingual</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communicate in two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2"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Class Instructional Design and Assessm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A is a consortium of states (Wisconsin included) dedicated to the design implementation of high standards and equitable educational opportunities for English Language Lear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4" name="PlaceHolder 2"/>
          <p:cNvSpPr>
            <a:spLocks noGrp="1"/>
          </p:cNvSpPr>
          <p:nvPr>
            <p:ph/>
          </p:nvPr>
        </p:nvSpPr>
        <p:spPr>
          <a:xfrm>
            <a:off x="685800" y="1828440"/>
            <a:ext cx="7772400" cy="434340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Do Descriptors</a:t>
            </a:r>
            <a:endParaRPr b="0" lang="en-US" sz="3200" spc="-1" strike="noStrike">
              <a:solidFill>
                <a:srgbClr val="ffffff"/>
              </a:solidFill>
              <a:latin typeface="Arial"/>
            </a:endParaRPr>
          </a:p>
          <a:p>
            <a:pPr marL="329040" indent="-32904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o support teachers by providing them with information on the language students are able to understand and produce in the classroom.  They expand the performance definitions by giving more specific information.  They are suggested indicators, which are given in the 4 language domains.  (Reading, writing, listening and speak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6"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el 1 Entering</a:t>
            </a:r>
            <a:endParaRPr b="0" lang="en-US" sz="36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a student will be at a level 1 if the pupil does not understand or speak English with the exception for a few isolated words or expressions.</a:t>
            </a:r>
            <a:br>
              <a:rPr sz="3600"/>
            </a:br>
            <a:r>
              <a:rPr b="0" lang="en-US" sz="3200" spc="-1" strike="noStrike">
                <a:solidFill>
                  <a:srgbClr val="000000"/>
                </a:solidFill>
                <a:latin typeface="Arial"/>
              </a:rPr>
              <a:t> </a:t>
            </a:r>
            <a:r>
              <a:rPr b="1" lang="en-US" sz="1800" spc="-1" strike="noStrike">
                <a:solidFill>
                  <a:srgbClr val="ffffff"/>
                </a:solidFill>
                <a:latin typeface="Arial"/>
              </a:rPr>
              <a:t>PI 13.08(3)(1)-(6), Wisconsin Administrative R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2 Beginn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mp; academic English with hesitancy and difficulty.  The student understands parts of lessons and simple directions.  The student is at a pre-emergent or emergent level of reading and writing in English, significantly below grade level.</a:t>
            </a:r>
            <a:br>
              <a:rPr sz="3200"/>
            </a:br>
            <a:r>
              <a:rPr b="0" lang="en-US" sz="3200" spc="-1" strike="noStrike">
                <a:solidFill>
                  <a:srgbClr val="ffffff"/>
                </a:solidFill>
                <a:latin typeface="Arial"/>
              </a:rPr>
              <a:t> </a:t>
            </a: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es It Mean?</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3 Developing</a:t>
            </a:r>
            <a:endParaRPr b="0" lang="en-US" sz="3200" spc="-1" strike="noStrike">
              <a:solidFill>
                <a:srgbClr val="ffffff"/>
              </a:solidFill>
              <a:latin typeface="Arial"/>
            </a:endParaRPr>
          </a:p>
          <a:p>
            <a:pPr marL="343080" indent="-3430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udent understands and speaks conversational and academic English with decreasing hesitancy and difficulty.  The student is developing reading comprehension and writing skills in English.  The student English literacy skills allow the student to demonstrate academic knowledge in content areas with assistance. </a:t>
            </a:r>
            <a:br>
              <a:rPr sz="3200"/>
            </a:br>
            <a:r>
              <a:rPr b="1" lang="en-US" sz="1600" spc="-1" strike="noStrike">
                <a:solidFill>
                  <a:srgbClr val="ffffff"/>
                </a:solidFill>
                <a:latin typeface="Arial"/>
              </a:rPr>
              <a:t>PI 13.08(3)(1)-(6), Wisconsin Administrative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0:53:27Z</dcterms:created>
  <dc:creator>Wendy Wegenke</dc:creator>
  <dc:description/>
  <dc:language>en-US</dc:language>
  <cp:lastModifiedBy>Wendy Wegenke</cp:lastModifiedBy>
  <dcterms:modified xsi:type="dcterms:W3CDTF">2010-10-11T16:27:20Z</dcterms:modified>
  <cp:revision>75</cp:revision>
  <dc:subject/>
  <dc:title>English Language Proficiency</dc:title>
</cp:coreProperties>
</file>