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0992E-E7AE-42EA-A6ED-45A014EB4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7D19C-8727-4F61-836A-6F37D4413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5C325-0C39-40AD-81AF-AAC464169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A4A40-69C8-4D30-9DF6-2A00208CF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2A051-B215-4D5D-BFE1-0878E548A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977E3-0841-4EC9-85BE-1B4E38334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9365B-1900-4002-81DB-9A9CA982F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C5982-0909-4D5A-AC15-3912FB7CF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E14E3-F156-469F-99E4-3EF9B1016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DF89E-12C8-4FE9-AC9B-A75BDCFD8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B55FC-4DEE-48D4-8E40-8B65B7426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E91B6-8B43-4662-B6AE-E425FC4FD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C96AC-0871-42A6-A974-CAC123BEB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03426-0870-4415-A538-C7AD03643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A1229-B1C6-424C-A1C5-9CA894036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52276-ED8C-47FC-A839-79E3AE98E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1D99D-60B9-4016-BE45-F84BB3130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E5A197-E17E-43CD-AA95-7A8A67BA7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3E7308-E59B-4151-8F6A-13717D51F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26BBDF-6518-48BB-A98B-D3D8A83F0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00A7DE-47B2-423A-91E3-CD7A5A67E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4F3A8D-1F94-41B7-8A58-FF753A4A1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8F074-7BB8-42EE-98DD-ECF9EB16E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048DD2-FF68-45AE-B0AC-3C9BE0F9A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DE7EE5-36E2-4772-AD26-F13D86D10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DDB130-BD42-4A17-932F-43DBC413B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7CF63E-1D90-4FA4-B609-B01043DB0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45A0F6-E22B-4DE5-83A9-064D9522E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45806C-6D6B-4D89-BDB3-C9FDDA87B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851B46-40E6-457A-9CC4-41D03DF6A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3DCB7C-29AC-424C-A39E-2B4CF7A15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9EC821-1C0B-40B4-89B7-02FD34548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1802A0-2774-4F0F-8468-DCF80A5C4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1E53A-31A3-41D9-A04F-3EF36429E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FB9BD3-BEEB-4AF2-AC01-E0B1B6054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F52D95-B02B-4009-A71C-4EF239136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846383-EB76-41FF-BBF2-66141C63D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F2D7C7-A30D-44D6-856D-9CC8A222D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38FD07-CA7F-4341-BE80-B5E0FCCE2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341C4F-FA58-4B96-AC51-483CA7AC3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B059A7-B0BC-4D67-96FF-BC987E841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C4A9D6-B900-485B-B357-2065BEFEB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1DF8E8-12DD-4C53-B1D9-07973FAB8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756A93-E4AF-4445-96C9-E870F4A73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C8112-191E-4FAF-AB07-7C46308A5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00F863-B1D3-4525-88B2-D36FBE6FF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D983A6-1396-4896-8A47-50C7F66C1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E33B25-2ED8-4CE6-8622-DE96B6FA5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DDE6B4-61EE-4566-95A4-2548F64BD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2508B6-ED8C-4EA7-AA4D-A1A781FC6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00A9F4-8EF7-4A8C-A612-7077F8374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3E69BC-2B26-4950-8109-22B7FDBE2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95F987-E5AD-47FF-9E36-D5DAE8319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4F7CDD-5E4A-4F05-8D2C-913B228C3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2D209F-9CCE-4BC6-B2CB-C12190A31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5D010-0112-4CF5-92BD-B4CBA7878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82BC90-01AA-4A0D-9F29-27C0E59D6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85B03A-91AD-4283-9DF0-F8FFEB774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4AF03F-56C7-488D-B114-351F87927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B0A588-E68D-413E-BFAE-35C4550E5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F8B47B-E00B-4814-B49F-9A2D4A6DD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A28F91-F2B9-4F9F-ADC5-154AD76B0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4284C7-B0F9-45DC-869B-9668AB96D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5515A7-9473-444A-BF76-42AE4B974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A3F538-026C-4936-A2E7-7109274CC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C77543-72EA-46F8-AD21-DFB667104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5DC22-E56D-4995-A824-0DD782B06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298FA4-B89B-4935-BFEF-04B6521E3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1F2F12-2280-4AAE-AB01-EE299D88D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F08E03-4889-4AF4-91AD-A71A2E3FF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5197DE-51F8-4D9A-9737-F9C7B2A8A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9FD0DB-2DC1-4AE2-BED6-AB375CA63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4BF7FF-CAE3-4FF2-9772-AE8FFE29F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E1A643-F285-4158-89DE-92B2824E8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8DFBED-15D1-4E5A-B142-CC7A84428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EE3DC5-1DAB-4339-8F1B-295FF3E12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E7B878-A768-46AC-A8A0-39F2A194D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03D18-598C-41E1-8079-56C13378A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3E726D-0272-4944-9B63-74CE4B0E0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524D3E-E77A-4EED-BD21-879FAA9D0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CF5A3E-9C67-4756-9F5E-239F4D6B9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4F4566-1DE4-4022-B56D-019FEDCCC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CF51C5-3DA3-4D90-80B8-8791C2961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C70E6-7E0D-4871-8F49-14EB2ECB6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36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1E2C7-2F4D-49E0-916C-50AB7B3D7111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"/>
          <p:cNvPicPr/>
          <p:nvPr/>
        </p:nvPicPr>
        <p:blipFill>
          <a:blip r:embed="rId2"/>
          <a:srcRect l="20946" t="36809" r="21643" b="22723"/>
          <a:stretch/>
        </p:blipFill>
        <p:spPr>
          <a:xfrm>
            <a:off x="76320" y="6195960"/>
            <a:ext cx="1066680" cy="585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0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36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7EBEE-A7A6-4E92-9AAA-CC2D93A86B8C}" type="slidenum">
              <a:rPr b="0" lang="en-US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10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1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36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F026C-F620-46A4-9B6F-A5312AAEF62B}" type="slidenum">
              <a:rPr b="0" lang="en-US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36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A9017-63A4-470C-937D-06BB0D0DDCBA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10" descr=""/>
          <p:cNvPicPr/>
          <p:nvPr/>
        </p:nvPicPr>
        <p:blipFill>
          <a:blip r:embed="rId2"/>
          <a:srcRect l="20946" t="36809" r="21643" b="22723"/>
          <a:stretch/>
        </p:blipFill>
        <p:spPr>
          <a:xfrm>
            <a:off x="76320" y="6195960"/>
            <a:ext cx="1066680" cy="585720"/>
          </a:xfrm>
          <a:prstGeom prst="rect">
            <a:avLst/>
          </a:prstGeom>
          <a:ln w="0">
            <a:noFill/>
          </a:ln>
        </p:spPr>
      </p:pic>
      <p:sp>
        <p:nvSpPr>
          <p:cNvPr id="174" name="Rectangle 10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11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36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A061C-2C13-439A-AA1D-49905C779C78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10" descr=""/>
          <p:cNvPicPr/>
          <p:nvPr/>
        </p:nvPicPr>
        <p:blipFill>
          <a:blip r:embed="rId2"/>
          <a:srcRect l="20946" t="36809" r="21643" b="22723"/>
          <a:stretch/>
        </p:blipFill>
        <p:spPr>
          <a:xfrm>
            <a:off x="76320" y="6195960"/>
            <a:ext cx="1066680" cy="585720"/>
          </a:xfrm>
          <a:prstGeom prst="rect">
            <a:avLst/>
          </a:prstGeom>
          <a:ln w="0">
            <a:noFill/>
          </a:ln>
        </p:spPr>
      </p:pic>
      <p:sp>
        <p:nvSpPr>
          <p:cNvPr id="220" name="Rectangle 10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11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36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6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7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8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DB2DD-8B7D-4230-9FE5-370527A0EFD1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10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1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36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ftr" idx="20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4A928-5434-4834-BEB7-962ED3B0048A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://www.dpi.wi.gov/cal/pdf/commoncorestds-qa.pdf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Title 1" descr=""/>
          <p:cNvPicPr/>
          <p:nvPr/>
        </p:nvPicPr>
        <p:blipFill>
          <a:blip r:embed="rId1"/>
          <a:stretch/>
        </p:blipFill>
        <p:spPr>
          <a:xfrm>
            <a:off x="225360" y="1444680"/>
            <a:ext cx="8772480" cy="2450880"/>
          </a:xfrm>
          <a:prstGeom prst="rect">
            <a:avLst/>
          </a:prstGeom>
          <a:ln w="0">
            <a:noFill/>
          </a:ln>
        </p:spPr>
      </p:pic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837720" y="5105520"/>
            <a:ext cx="7696440" cy="1371600"/>
          </a:xfrm>
          <a:prstGeom prst="rect">
            <a:avLst/>
          </a:prstGeom>
          <a:noFill/>
          <a:ln w="0">
            <a:noFill/>
          </a:ln>
        </p:spPr>
        <p:txBody>
          <a:bodyPr lIns="118800" rIns="45720" tIns="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ptember 2010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Title 1" descr=""/>
          <p:cNvPicPr/>
          <p:nvPr/>
        </p:nvPicPr>
        <p:blipFill>
          <a:blip r:embed="rId1"/>
          <a:stretch/>
        </p:blipFill>
        <p:spPr>
          <a:xfrm>
            <a:off x="133200" y="378000"/>
            <a:ext cx="8712360" cy="774360"/>
          </a:xfrm>
          <a:prstGeom prst="rect">
            <a:avLst/>
          </a:prstGeom>
          <a:ln w="0">
            <a:noFill/>
          </a:ln>
        </p:spPr>
      </p:pic>
      <p:sp>
        <p:nvSpPr>
          <p:cNvPr id="326" name=""/>
          <p:cNvSpPr txBox="1"/>
          <p:nvPr/>
        </p:nvSpPr>
        <p:spPr>
          <a:xfrm>
            <a:off x="609120" y="1447920"/>
            <a:ext cx="8534520" cy="54100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lvl="1" marL="730080" indent="-272880">
              <a:spcBef>
                <a:spcPts val="249"/>
              </a:spcBef>
              <a:buClr>
                <a:srgbClr val="ffc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ffc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3c00"/>
                </a:solidFill>
                <a:latin typeface="Corbel"/>
              </a:rPr>
              <a:t>Standards for Mathematical Practice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ffc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3c00"/>
                </a:solidFill>
                <a:latin typeface="Corbel"/>
              </a:rPr>
              <a:t>Standards for Mathematical Content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spcBef>
                <a:spcPts val="601"/>
              </a:spcBef>
              <a:buClr>
                <a:srgbClr val="ffc000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3c00"/>
                </a:solidFill>
                <a:latin typeface="Corbel"/>
              </a:rPr>
              <a:t>K-8 grade level standards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spcBef>
                <a:spcPts val="601"/>
              </a:spcBef>
              <a:buClr>
                <a:srgbClr val="ffc000"/>
              </a:buClr>
              <a:buFont typeface="Wingdings 3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3c00"/>
                </a:solidFill>
                <a:latin typeface="Corbel"/>
              </a:rPr>
              <a:t>Algebraic thinking standards indicated in K-5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spcBef>
                <a:spcPts val="601"/>
              </a:spcBef>
              <a:buClr>
                <a:srgbClr val="ffc000"/>
              </a:buClr>
              <a:buFont typeface="Wingdings 3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3c00"/>
                </a:solidFill>
                <a:latin typeface="Corbel"/>
              </a:rPr>
              <a:t>Grade level overviews:  K-8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spcBef>
                <a:spcPts val="601"/>
              </a:spcBef>
              <a:buClr>
                <a:srgbClr val="ffc000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3c00"/>
                </a:solidFill>
                <a:latin typeface="Corbel"/>
              </a:rPr>
              <a:t>Mathematical Standards for High Schoo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spcBef>
                <a:spcPts val="601"/>
              </a:spcBef>
              <a:buClr>
                <a:srgbClr val="ffc000"/>
              </a:buClr>
              <a:buFont typeface="Wingdings 3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3c00"/>
                </a:solidFill>
                <a:latin typeface="Corbel"/>
              </a:rPr>
              <a:t>Conceptual categories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spcBef>
                <a:spcPts val="601"/>
              </a:spcBef>
              <a:buClr>
                <a:srgbClr val="ffc000"/>
              </a:buClr>
              <a:buFont typeface="Wingdings 3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3c00"/>
                </a:solidFill>
                <a:latin typeface="Corbel"/>
              </a:rPr>
              <a:t>Additional standards for preparation for advanced courses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Title 1" descr=""/>
          <p:cNvPicPr/>
          <p:nvPr/>
        </p:nvPicPr>
        <p:blipFill>
          <a:blip r:embed="rId1"/>
          <a:stretch/>
        </p:blipFill>
        <p:spPr>
          <a:xfrm>
            <a:off x="133200" y="378000"/>
            <a:ext cx="8712360" cy="774360"/>
          </a:xfrm>
          <a:prstGeom prst="rect">
            <a:avLst/>
          </a:prstGeom>
          <a:ln w="0">
            <a:noFill/>
          </a:ln>
        </p:spPr>
      </p:pic>
      <p:sp>
        <p:nvSpPr>
          <p:cNvPr id="328" name=""/>
          <p:cNvSpPr txBox="1"/>
          <p:nvPr/>
        </p:nvSpPr>
        <p:spPr>
          <a:xfrm>
            <a:off x="380520" y="1447920"/>
            <a:ext cx="8534520" cy="54100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7000"/>
          </a:bodyPr>
          <a:p>
            <a:pPr lvl="1" marL="708120" indent="-264600">
              <a:lnSpc>
                <a:spcPct val="90000"/>
              </a:lnSpc>
              <a:spcBef>
                <a:spcPts val="224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Grades K-5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1" marL="708120" indent="-264600">
              <a:lnSpc>
                <a:spcPct val="90000"/>
              </a:lnSpc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Numbers and Operations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708120" indent="-264600">
              <a:lnSpc>
                <a:spcPct val="90000"/>
              </a:lnSpc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Operations and Algebraic Thinking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708120" indent="-264600">
              <a:lnSpc>
                <a:spcPct val="90000"/>
              </a:lnSpc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Measurement and Data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708120" indent="-264600">
              <a:lnSpc>
                <a:spcPct val="90000"/>
              </a:lnSpc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Geometry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Grades 6-8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1" marL="708120" indent="-264600">
              <a:lnSpc>
                <a:spcPct val="90000"/>
              </a:lnSpc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Number System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708120" indent="-264600">
              <a:lnSpc>
                <a:spcPct val="90000"/>
              </a:lnSpc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Ratios and Proportional Relationships [Gr. 8 – Functions]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708120" indent="-264600">
              <a:lnSpc>
                <a:spcPct val="90000"/>
              </a:lnSpc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Expressions and Equations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708120" indent="-264600">
              <a:lnSpc>
                <a:spcPct val="90000"/>
              </a:lnSpc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Geometry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708120" indent="-264600">
              <a:lnSpc>
                <a:spcPct val="90000"/>
              </a:lnSpc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Statistics and Probability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708120" indent="-264600">
              <a:lnSpc>
                <a:spcPct val="90000"/>
              </a:lnSpc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2" marL="965520" indent="-22140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1" marL="708120" indent="-264600">
              <a:lnSpc>
                <a:spcPct val="90000"/>
              </a:lnSpc>
              <a:spcBef>
                <a:spcPts val="55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Title 1" descr=""/>
          <p:cNvPicPr/>
          <p:nvPr/>
        </p:nvPicPr>
        <p:blipFill>
          <a:blip r:embed="rId1"/>
          <a:stretch/>
        </p:blipFill>
        <p:spPr>
          <a:xfrm>
            <a:off x="133200" y="378000"/>
            <a:ext cx="8712360" cy="77436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 txBox="1"/>
          <p:nvPr/>
        </p:nvSpPr>
        <p:spPr>
          <a:xfrm>
            <a:off x="380520" y="1447920"/>
            <a:ext cx="8534520" cy="54100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lvl="1" marL="730080" indent="-272880">
              <a:spcBef>
                <a:spcPts val="2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High Schoo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Numbers and Quantity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Algebra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Function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Modeling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Geometry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tatistics and Probability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Title 1" descr=""/>
          <p:cNvPicPr/>
          <p:nvPr/>
        </p:nvPicPr>
        <p:blipFill>
          <a:blip r:embed="rId1"/>
          <a:stretch/>
        </p:blipFill>
        <p:spPr>
          <a:xfrm>
            <a:off x="255600" y="152280"/>
            <a:ext cx="8437680" cy="1262160"/>
          </a:xfrm>
          <a:prstGeom prst="rect">
            <a:avLst/>
          </a:prstGeom>
          <a:ln w="0">
            <a:noFill/>
          </a:ln>
        </p:spPr>
      </p:pic>
      <p:sp>
        <p:nvSpPr>
          <p:cNvPr id="332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Tools to lead the conversation around implementation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601"/>
              </a:spcBef>
              <a:spcAft>
                <a:spcPts val="1800"/>
              </a:spcAft>
              <a:buClr>
                <a:srgbClr val="ffc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t of common beliefs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601"/>
              </a:spcBef>
              <a:spcAft>
                <a:spcPts val="1800"/>
              </a:spcAft>
              <a:buClr>
                <a:srgbClr val="ffc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CESAs’ Foundations Kit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601"/>
              </a:spcBef>
              <a:spcAft>
                <a:spcPts val="1800"/>
              </a:spcAft>
              <a:buClr>
                <a:srgbClr val="ffc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ramework(s) for curriculum, assessments, instruction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601"/>
              </a:spcBef>
              <a:spcAft>
                <a:spcPts val="1800"/>
              </a:spcAft>
              <a:buClr>
                <a:srgbClr val="ffc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Examples from pilot sites (“early implementers”)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Title 1" descr=""/>
          <p:cNvPicPr/>
          <p:nvPr/>
        </p:nvPicPr>
        <p:blipFill>
          <a:blip r:embed="rId1"/>
          <a:stretch/>
        </p:blipFill>
        <p:spPr>
          <a:xfrm>
            <a:off x="255600" y="152280"/>
            <a:ext cx="8437680" cy="1262160"/>
          </a:xfrm>
          <a:prstGeom prst="rect">
            <a:avLst/>
          </a:prstGeom>
          <a:ln w="0">
            <a:noFill/>
          </a:ln>
        </p:spPr>
      </p:pic>
      <p:sp>
        <p:nvSpPr>
          <p:cNvPr id="334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lvl="1" marL="438120" indent="-318960">
              <a:lnSpc>
                <a:spcPct val="100000"/>
              </a:lnSpc>
              <a:spcAft>
                <a:spcPts val="1800"/>
              </a:spcAft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all 2010:  Administration of WKCE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spcAft>
                <a:spcPts val="1800"/>
              </a:spcAft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010-2015 (Projected):  Development of SMARTER Balanced Assessment Consortium’s formative resources, and benchmark and summative item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spcAft>
                <a:spcPts val="1800"/>
              </a:spcAft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013-2014 (Projected):  Piloting and field testing of the summative assessment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spcAft>
                <a:spcPts val="1800"/>
              </a:spcAft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014-2015:  New summative assessment system is projected to be in place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Title 1" descr=""/>
          <p:cNvPicPr/>
          <p:nvPr/>
        </p:nvPicPr>
        <p:blipFill>
          <a:blip r:embed="rId1"/>
          <a:stretch/>
        </p:blipFill>
        <p:spPr>
          <a:xfrm>
            <a:off x="285840" y="152280"/>
            <a:ext cx="8407440" cy="126216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Websites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WI DPI: 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http://www.dpi.wi.gov/standards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Common Core State Standards Initiative: 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 http://www.corestandards.org/the-standards /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Title 1" descr=""/>
          <p:cNvPicPr/>
          <p:nvPr/>
        </p:nvPicPr>
        <p:blipFill>
          <a:blip r:embed="rId1"/>
          <a:stretch/>
        </p:blipFill>
        <p:spPr>
          <a:xfrm>
            <a:off x="285840" y="152280"/>
            <a:ext cx="8407440" cy="1262160"/>
          </a:xfrm>
          <a:prstGeom prst="rect">
            <a:avLst/>
          </a:prstGeom>
          <a:ln w="0">
            <a:noFill/>
          </a:ln>
        </p:spPr>
      </p:pic>
      <p:sp>
        <p:nvSpPr>
          <p:cNvPr id="338" name=""/>
          <p:cNvSpPr txBox="1"/>
          <p:nvPr/>
        </p:nvSpPr>
        <p:spPr>
          <a:xfrm>
            <a:off x="1218960" y="1447920"/>
            <a:ext cx="701028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89000"/>
          </a:bodyPr>
          <a:p>
            <a:pPr marL="389880" indent="-283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Emilie Amundson, English Language Arts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89880" indent="-283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emilie.amundson@dpi.wi.gov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89880" indent="-283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rbel"/>
            </a:endParaRPr>
          </a:p>
          <a:p>
            <a:pPr marL="389880" indent="-283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Jacque Karbon, Reading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89880" indent="-283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jacque.karbon@dpi.wi.gov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89880" indent="-283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rbel"/>
            </a:endParaRPr>
          </a:p>
          <a:p>
            <a:pPr marL="389880" indent="-283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Diana Kasbaum, Mathematics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89880" indent="-283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diana.kasbaum@dpi.wi.gov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89880" indent="-283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rbel"/>
            </a:endParaRPr>
          </a:p>
          <a:p>
            <a:pPr marL="389880" indent="-283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helley Lee, Science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89880" indent="-283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shelley.lee@dpi.wi.gov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89880" indent="-283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rbel"/>
            </a:endParaRPr>
          </a:p>
          <a:p>
            <a:pPr marL="389880" indent="-283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Kristen McDaniel, Social Studies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89880" indent="-283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kristen.mcdaniel@dpi.wi.gov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89880" indent="-283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rbel"/>
            </a:endParaRPr>
          </a:p>
          <a:p>
            <a:pPr marL="389880" indent="-283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Paul Sandrock, Content and Learning Team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89880" indent="-283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s.paul.sandrock@dpi.wi.gov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Title 1" descr=""/>
          <p:cNvPicPr/>
          <p:nvPr/>
        </p:nvPicPr>
        <p:blipFill>
          <a:blip r:embed="rId1"/>
          <a:stretch/>
        </p:blipFill>
        <p:spPr>
          <a:xfrm>
            <a:off x="285840" y="152280"/>
            <a:ext cx="8712000" cy="1262160"/>
          </a:xfrm>
          <a:prstGeom prst="rect">
            <a:avLst/>
          </a:prstGeom>
          <a:ln w="0">
            <a:noFill/>
          </a:ln>
        </p:spPr>
      </p:pic>
      <p:sp>
        <p:nvSpPr>
          <p:cNvPr id="309" name=""/>
          <p:cNvSpPr txBox="1"/>
          <p:nvPr/>
        </p:nvSpPr>
        <p:spPr>
          <a:xfrm>
            <a:off x="457200" y="152388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Commonly Asked Questions: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spcBef>
                <a:spcPts val="1800"/>
              </a:spcBef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What does it mean to ad0pt the Common Core Standards?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spcBef>
                <a:spcPts val="1800"/>
              </a:spcBef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How will the Common Core Standards connect to curriculum, instruction, and assessment?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TextBox 3"/>
          <p:cNvSpPr/>
          <p:nvPr/>
        </p:nvSpPr>
        <p:spPr>
          <a:xfrm>
            <a:off x="3124080" y="6272280"/>
            <a:ext cx="5791320" cy="9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rbel"/>
              </a:rPr>
              <a:t>DPI Guidance Document for Common Core State Standards Initia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168bba"/>
                </a:solidFill>
                <a:uFillTx/>
                <a:latin typeface="Corbel"/>
                <a:hlinkClick r:id="rId2"/>
              </a:rPr>
              <a:t>http://www.dpi.wi.gov/cal/pdf/commoncorestds-qa.pdf</a:t>
            </a:r>
            <a:r>
              <a:rPr b="1" lang="en-US" sz="1400" spc="-1" strike="noStrike">
                <a:solidFill>
                  <a:srgbClr val="000000"/>
                </a:solidFill>
                <a:latin typeface="Corbel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Title 1" descr=""/>
          <p:cNvPicPr/>
          <p:nvPr/>
        </p:nvPicPr>
        <p:blipFill>
          <a:blip r:embed="rId1"/>
          <a:stretch/>
        </p:blipFill>
        <p:spPr>
          <a:xfrm>
            <a:off x="255600" y="152280"/>
            <a:ext cx="8437680" cy="1262160"/>
          </a:xfrm>
          <a:prstGeom prst="rect">
            <a:avLst/>
          </a:prstGeom>
          <a:ln w="0">
            <a:noFill/>
          </a:ln>
        </p:spPr>
      </p:pic>
      <p:pic>
        <p:nvPicPr>
          <p:cNvPr id="312" name="Content Placeholder 3" descr=""/>
          <p:cNvPicPr/>
          <p:nvPr/>
        </p:nvPicPr>
        <p:blipFill>
          <a:blip r:embed="rId2"/>
          <a:stretch/>
        </p:blipFill>
        <p:spPr>
          <a:xfrm>
            <a:off x="-542880" y="1060560"/>
            <a:ext cx="9997920" cy="61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Title 1" descr=""/>
          <p:cNvPicPr/>
          <p:nvPr/>
        </p:nvPicPr>
        <p:blipFill>
          <a:blip r:embed="rId1"/>
          <a:stretch/>
        </p:blipFill>
        <p:spPr>
          <a:xfrm>
            <a:off x="255600" y="152280"/>
            <a:ext cx="8437680" cy="1262160"/>
          </a:xfrm>
          <a:prstGeom prst="rect">
            <a:avLst/>
          </a:prstGeom>
          <a:ln w="0">
            <a:noFill/>
          </a:ln>
        </p:spPr>
      </p:pic>
      <p:sp>
        <p:nvSpPr>
          <p:cNvPr id="314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spcAft>
                <a:spcPts val="1800"/>
              </a:spcAft>
              <a:buClr>
                <a:srgbClr val="ffc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Communication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spcAft>
                <a:spcPts val="1800"/>
              </a:spcAft>
              <a:buClr>
                <a:srgbClr val="ffc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83300"/>
                </a:solidFill>
                <a:latin typeface="Corbel"/>
              </a:rPr>
              <a:t>Professional learning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spcAft>
                <a:spcPts val="1800"/>
              </a:spcAft>
              <a:buClr>
                <a:srgbClr val="ffc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83300"/>
                </a:solidFill>
                <a:latin typeface="Corbel"/>
              </a:rPr>
              <a:t>Resource development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spcAft>
                <a:spcPts val="1800"/>
              </a:spcAft>
              <a:buClr>
                <a:srgbClr val="ffc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83300"/>
                </a:solidFill>
                <a:latin typeface="Corbel"/>
              </a:rPr>
              <a:t>Curriculum development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spcAft>
                <a:spcPts val="1800"/>
              </a:spcAft>
              <a:buClr>
                <a:srgbClr val="ffc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83300"/>
                </a:solidFill>
                <a:latin typeface="Corbel"/>
              </a:rPr>
              <a:t>Formative and benchmark assessment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spcAft>
                <a:spcPts val="1800"/>
              </a:spcAft>
              <a:buClr>
                <a:srgbClr val="ffc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83300"/>
                </a:solidFill>
                <a:latin typeface="Corbel"/>
              </a:rPr>
              <a:t>Additional resource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Title 1" descr=""/>
          <p:cNvPicPr/>
          <p:nvPr/>
        </p:nvPicPr>
        <p:blipFill>
          <a:blip r:embed="rId1"/>
          <a:stretch/>
        </p:blipFill>
        <p:spPr>
          <a:xfrm>
            <a:off x="285840" y="152280"/>
            <a:ext cx="8529480" cy="1262160"/>
          </a:xfrm>
          <a:prstGeom prst="rect">
            <a:avLst/>
          </a:prstGeom>
          <a:ln w="0">
            <a:noFill/>
          </a:ln>
        </p:spPr>
      </p:pic>
      <p:sp>
        <p:nvSpPr>
          <p:cNvPr id="316" name=""/>
          <p:cNvSpPr txBox="1"/>
          <p:nvPr/>
        </p:nvSpPr>
        <p:spPr>
          <a:xfrm>
            <a:off x="533520" y="167652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Students: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Demonstrate independence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Build strong content knowledge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Respond to the varying demands of audience, task, purpose, and discipline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Comprehend as well as critique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Value evidence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Use technology and digital media strategically and capably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Come to understand other perspectives and cultures 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Title 1" descr=""/>
          <p:cNvPicPr/>
          <p:nvPr/>
        </p:nvPicPr>
        <p:blipFill>
          <a:blip r:embed="rId1"/>
          <a:stretch/>
        </p:blipFill>
        <p:spPr>
          <a:xfrm>
            <a:off x="285840" y="152280"/>
            <a:ext cx="8407440" cy="1262160"/>
          </a:xfrm>
          <a:prstGeom prst="rect">
            <a:avLst/>
          </a:prstGeom>
          <a:ln w="0">
            <a:noFill/>
          </a:ln>
        </p:spPr>
      </p:pic>
      <p:sp>
        <p:nvSpPr>
          <p:cNvPr id="318" name=""/>
          <p:cNvSpPr txBox="1"/>
          <p:nvPr/>
        </p:nvSpPr>
        <p:spPr>
          <a:xfrm>
            <a:off x="533520" y="1676520"/>
            <a:ext cx="807696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4000"/>
          </a:bodyPr>
          <a:p>
            <a:pPr marL="411480" indent="-299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Standards for Mathematical Practice: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411480" indent="-2995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Make sense of problems and persevere in solving them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411480" indent="-2995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Reason abstractly and quantitatively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411480" indent="-2995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Construct viable arguments and critique reasoning of others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411480" indent="-2995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Model with mathematics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411480" indent="-2995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Use appropriate tools strategically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411480" indent="-2995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Attend to precision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411480" indent="-2995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Look for and make use of structure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411480" indent="-2995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Look for and express regularity in repeated reasoning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411480" indent="-2995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Title 1" descr=""/>
          <p:cNvPicPr/>
          <p:nvPr/>
        </p:nvPicPr>
        <p:blipFill>
          <a:blip r:embed="rId1"/>
          <a:stretch/>
        </p:blipFill>
        <p:spPr>
          <a:xfrm>
            <a:off x="133200" y="378000"/>
            <a:ext cx="8712360" cy="77436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 txBox="1"/>
          <p:nvPr/>
        </p:nvSpPr>
        <p:spPr>
          <a:xfrm>
            <a:off x="380520" y="1447920"/>
            <a:ext cx="8534520" cy="54100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rbel"/>
              </a:rPr>
              <a:t>Common Core Standards for English Language Arts and Literacy in History/Social Studies, Science, and Technical Subject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ffc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rbel"/>
              </a:rPr>
              <a:t>College and Career Readiness (CCR)  Anchor Standards </a:t>
            </a:r>
            <a:r>
              <a:rPr b="0" lang="en-US" sz="2800" spc="-1" strike="noStrike">
                <a:solidFill>
                  <a:srgbClr val="785700"/>
                </a:solidFill>
                <a:latin typeface="Corbel"/>
              </a:rPr>
              <a:t>for each strand: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73240">
              <a:spcBef>
                <a:spcPts val="601"/>
              </a:spcBef>
              <a:buClr>
                <a:srgbClr val="ffc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5700"/>
                </a:solidFill>
                <a:latin typeface="Corbel"/>
              </a:rPr>
              <a:t>Reading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73240">
              <a:spcBef>
                <a:spcPts val="601"/>
              </a:spcBef>
              <a:buClr>
                <a:srgbClr val="ffc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5700"/>
                </a:solidFill>
                <a:latin typeface="Corbel"/>
              </a:rPr>
              <a:t>Writing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73240">
              <a:spcBef>
                <a:spcPts val="601"/>
              </a:spcBef>
              <a:buClr>
                <a:srgbClr val="ffc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5700"/>
                </a:solidFill>
                <a:latin typeface="Corbel"/>
              </a:rPr>
              <a:t>Speaking and Listening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73240">
              <a:spcBef>
                <a:spcPts val="601"/>
              </a:spcBef>
              <a:buClr>
                <a:srgbClr val="ffc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5700"/>
                </a:solidFill>
                <a:latin typeface="Corbel"/>
              </a:rPr>
              <a:t>Language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649"/>
              </a:spcBef>
              <a:buClr>
                <a:srgbClr val="ffc000"/>
              </a:buClr>
              <a:buSzPct val="90000"/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85700"/>
                </a:solidFill>
                <a:latin typeface="Corbel"/>
              </a:rPr>
              <a:t>Overarching targets (parallel for each grade band)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249"/>
              </a:spcBef>
              <a:buClr>
                <a:srgbClr val="ffc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7324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Title 1" descr=""/>
          <p:cNvPicPr/>
          <p:nvPr/>
        </p:nvPicPr>
        <p:blipFill>
          <a:blip r:embed="rId1"/>
          <a:stretch/>
        </p:blipFill>
        <p:spPr>
          <a:xfrm>
            <a:off x="133200" y="378000"/>
            <a:ext cx="8712360" cy="7743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 txBox="1"/>
          <p:nvPr/>
        </p:nvSpPr>
        <p:spPr>
          <a:xfrm>
            <a:off x="609120" y="1447920"/>
            <a:ext cx="8534520" cy="54100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rbel"/>
              </a:rPr>
              <a:t>Reading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: Text complexity and growth of comprehension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Grades K-5:  Literature and Informational Text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Grades K-5:  Reading Standards – Foundational Skills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Grades 6-12:  Literature and Informational Text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2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rbel"/>
              </a:rPr>
              <a:t>Writing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: Text types, responding to reading, and research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rbel"/>
              </a:rPr>
              <a:t>Speaking and Listening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: Flexible communication and collaboration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rbel"/>
              </a:rPr>
              <a:t>Language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: Conventions and vocabulary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Title 1" descr=""/>
          <p:cNvPicPr/>
          <p:nvPr/>
        </p:nvPicPr>
        <p:blipFill>
          <a:blip r:embed="rId1"/>
          <a:stretch/>
        </p:blipFill>
        <p:spPr>
          <a:xfrm>
            <a:off x="133200" y="378000"/>
            <a:ext cx="8712360" cy="774360"/>
          </a:xfrm>
          <a:prstGeom prst="rect">
            <a:avLst/>
          </a:prstGeom>
          <a:ln w="0">
            <a:noFill/>
          </a:ln>
        </p:spPr>
      </p:pic>
      <p:sp>
        <p:nvSpPr>
          <p:cNvPr id="324" name=""/>
          <p:cNvSpPr txBox="1"/>
          <p:nvPr/>
        </p:nvSpPr>
        <p:spPr>
          <a:xfrm>
            <a:off x="380520" y="1447920"/>
            <a:ext cx="8534520" cy="54100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5000"/>
          </a:bodyPr>
          <a:p>
            <a:pPr marL="416160" indent="-302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rbel"/>
              </a:rPr>
              <a:t>Common Core Standards for English Language Arts and Literacy in History/Social Studies, Science, and Technical Subject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93360" indent="-259200">
              <a:spcBef>
                <a:spcPts val="700"/>
              </a:spcBef>
              <a:buClr>
                <a:srgbClr val="ffc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rbel"/>
              </a:rPr>
              <a:t>Grades 6-12: Standards for Literacy </a:t>
            </a:r>
            <a:r>
              <a:rPr b="0" lang="en-US" sz="2800" spc="-1" strike="noStrike">
                <a:solidFill>
                  <a:srgbClr val="785700"/>
                </a:solidFill>
                <a:latin typeface="Corbel"/>
              </a:rPr>
              <a:t>in   History/Social Studies, Science, &amp; Technical Subject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2" marL="945360" indent="-217080">
              <a:spcBef>
                <a:spcPts val="601"/>
              </a:spcBef>
              <a:buClr>
                <a:srgbClr val="ffc000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5700"/>
                </a:solidFill>
                <a:latin typeface="Corbel"/>
              </a:rPr>
              <a:t>Based on CCR Anchor Standards for Reading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945360" indent="-217080">
              <a:spcBef>
                <a:spcPts val="601"/>
              </a:spcBef>
              <a:buClr>
                <a:srgbClr val="ffc000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5700"/>
                </a:solidFill>
                <a:latin typeface="Corbel"/>
              </a:rPr>
              <a:t>Based on CCR Anchor Standards for  Writing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945360" indent="-217080">
              <a:spcBef>
                <a:spcPts val="601"/>
              </a:spcBef>
              <a:buClr>
                <a:srgbClr val="ffc000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5700"/>
                </a:solidFill>
                <a:latin typeface="Corbel"/>
              </a:rPr>
              <a:t>Presented as grade bands:  6-8, 9-10, 11-12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945360" indent="-217080">
              <a:spcBef>
                <a:spcPts val="601"/>
              </a:spcBef>
              <a:buClr>
                <a:srgbClr val="ffc000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5700"/>
                </a:solidFill>
                <a:latin typeface="Corbel"/>
              </a:rPr>
              <a:t>Technical subjects: defined as engineering, technology, business, design, and other workforce-related subjects; technical aspects of wider fields of study such as art and music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93360" indent="-259200">
              <a:spcBef>
                <a:spcPts val="249"/>
              </a:spcBef>
              <a:buClr>
                <a:srgbClr val="ffc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  <a:p>
            <a:pPr lvl="2" marL="945360" indent="-2170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93360" indent="-259200"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7T14:59:43Z</dcterms:created>
  <dc:creator>kasbadl</dc:creator>
  <dc:description/>
  <dc:language>en-US</dc:language>
  <cp:lastModifiedBy>kniesbj</cp:lastModifiedBy>
  <dcterms:modified xsi:type="dcterms:W3CDTF">2010-09-02T14:10:35Z</dcterms:modified>
  <cp:revision>37</cp:revision>
  <dc:subject/>
  <dc:title>Common Core State Standard Initiativ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442090283</vt:r8>
  </property>
  <property fmtid="{D5CDD505-2E9C-101B-9397-08002B2CF9AE}" pid="3" name="_AuthorEmail">
    <vt:lpwstr>S.Paul.Sandrock@dpi.wi.gov</vt:lpwstr>
  </property>
  <property fmtid="{D5CDD505-2E9C-101B-9397-08002B2CF9AE}" pid="4" name="_AuthorEmailDisplayName">
    <vt:lpwstr>Sandrock, S. Paul   DPI</vt:lpwstr>
  </property>
  <property fmtid="{D5CDD505-2E9C-101B-9397-08002B2CF9AE}" pid="5" name="_EmailSubject">
    <vt:lpwstr>Standards Website Update</vt:lpwstr>
  </property>
  <property fmtid="{D5CDD505-2E9C-101B-9397-08002B2CF9AE}" pid="6" name="_NewReviewCycle">
    <vt:lpwstr/>
  </property>
</Properties>
</file>