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8BD4-A4C9-4AFF-B835-4AF78A411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D9E5-95F0-418D-B0D7-A3931FB2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21CE-7559-4B13-B48F-5B062CA1E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0B79-728F-46EE-BDBA-246148AB5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4956-BC0C-456F-B81E-040DA6AD3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9089-64AE-4BB9-958D-A001F2D7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87DF-DBDC-4EB2-AC39-1F321336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C95F-20BB-4247-AE6B-65FA139C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8500-ABB5-4449-9371-340A85A4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4D91-833C-4E85-9961-7722B55E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0B79-EC76-4D3D-9E92-E3377EED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94D3-26F1-4A2D-8CAD-96B763B9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8112-1584-47FA-9482-D73DD29A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80F4-0209-4CA0-971D-49614264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59C7-6E8B-4EB8-A27B-F5D50C18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70C4-DE30-4F7F-930E-7F0455BF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DA8C-2D67-4B8B-8F35-B1E4CF205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99385-E894-4D9E-8A18-6329C6003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EDB71-C3F5-4D75-A09E-87D85CB9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328AF-978B-4A26-A553-012F0B3F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FE5EC-E008-42F3-8F4D-0A31CB97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80634-9971-43BE-81E2-B227B9EB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1A72-FD1A-4BA2-9554-29C37348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DF94D-D6CA-4DE1-A178-2A1B1AEB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2DCBF-73DF-4CBB-B49F-FF380745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3EA69-9166-44F0-8D4E-8DB9A4B8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053F1-5A49-4C7E-8DAC-6CA8C4EC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07FD2-D152-4416-97E7-02A09A33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34D2D-F9DD-4731-B299-FA4F37BCD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710F0-F9D5-411C-A322-7D9D8C0EA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82829-5CBE-49DB-B30F-88E69EE13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E80F4-FF81-400F-A057-1A9579F9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6C6DA-57B3-41EA-BE37-C9BB07F2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D717-12E8-48C2-AD22-99A5ACE1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C83E8-E6F1-4E07-A531-2AC80061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6F6F1-A9A0-494B-9A0C-5A16D1F5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EF706-4C60-4944-BEB5-036CBFF4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F7607-E2DC-425D-A8DA-3550D3D9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354A2-E8B1-4AF3-8ADA-F5023A67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B9E21-7F08-4970-A786-BCA1CDF1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89AF7-FF44-4AF2-A800-54E78959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7F4E6-275C-422E-98C5-455EF67EE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F4DA0-87A5-4BE5-B85D-67D4A732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88DB0-9919-4607-A556-A7DEB6A8E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8203-23CF-4AF7-A7EC-CA5833E0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F1A36-1A3F-45C5-8E9A-E18638F6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68DCF-CEF9-42DA-AC8A-ACDDAD7E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096BB-1FD7-4E62-A768-3558FE09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61172-12FA-49E2-9F2A-6FA8A26B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15F25-D197-4A2D-AF57-3FDA5B80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F1B8B-69FF-49C7-AA5F-09941820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15C49-B2E9-41D5-800E-64BCF7DD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0A625-0B67-400E-BB1F-539F3552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A3884-F9BD-4506-8C2D-08C0EA72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ABEED-0744-426E-90B6-00BC7D1A6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480E-EA8C-485D-888C-EBAFCA4B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6D0F5-3DB5-48EB-A447-9BDC2B360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61CE4-AF98-41B6-B978-179A49D91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817AF-FC7D-4BD0-B84A-5ED6E73E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5EE67-AB4C-40DD-B22D-AA0DCB08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33A35-7341-4E33-B0A2-A850B406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0ECA0-6B90-49C2-B65A-1C3F721E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205BD-D1CC-4606-9953-9FEFBC25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26103-CF7F-4C0D-B1C9-D8490572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480A0-6C61-422A-9B57-146D23FA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05679-3663-4880-84E5-E6A6CB26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B31D-4A56-44A2-94EE-0C1517C0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E2D31-6BB7-43CB-BEFE-58DFC103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A5E7E-7E4A-4A7D-9EAA-EFABB898E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1BB7F-8A12-47C5-8B70-D83A11FE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49429-A896-4F38-8656-D0F6BE0A6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1302C-7161-4B58-931B-09DDAD47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447C8-17AC-486A-9557-B179F846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D23FB-0DE4-455C-9BC7-360A5B64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F9B3C-D4E7-41AB-B73F-E929A215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A46BD-18B3-45FE-9699-1CB9D980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1C1A1-28D4-4AA3-8912-688A8412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4C67-66C3-44E2-94D2-8BB2835C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F9486-5309-46C0-B482-2DCE87CB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04408-A90E-46BF-991F-B0B41BB5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C50AF-9461-4680-AA76-B93F0D8F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B3D13-B541-4E87-AAD6-FE73F6448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266A8-F809-4931-8D5A-D151CC1FD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91CF-89E7-4C55-BA5E-95DAFF7C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1A24-7313-4F2B-A9A4-1AA89E70352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2"/>
          <a:srcRect l="20946" t="36809" r="21643" b="22723"/>
          <a:stretch/>
        </p:blipFill>
        <p:spPr>
          <a:xfrm>
            <a:off x="76320" y="6195960"/>
            <a:ext cx="1066680" cy="58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4ED9-5800-4441-A7EC-9FF62EF07954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924D-38CC-452D-A814-BCFD0490523B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6991-CE86-4884-A3BE-BEBF9A25D37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0" descr=""/>
          <p:cNvPicPr/>
          <p:nvPr/>
        </p:nvPicPr>
        <p:blipFill>
          <a:blip r:embed="rId2"/>
          <a:srcRect l="20946" t="36809" r="21643" b="22723"/>
          <a:stretch/>
        </p:blipFill>
        <p:spPr>
          <a:xfrm>
            <a:off x="76320" y="6195960"/>
            <a:ext cx="1066680" cy="5857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6D25-CC5D-4C0D-A55B-2AE05B5A969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0" descr=""/>
          <p:cNvPicPr/>
          <p:nvPr/>
        </p:nvPicPr>
        <p:blipFill>
          <a:blip r:embed="rId2"/>
          <a:srcRect l="20946" t="36809" r="21643" b="22723"/>
          <a:stretch/>
        </p:blipFill>
        <p:spPr>
          <a:xfrm>
            <a:off x="76320" y="6195960"/>
            <a:ext cx="1066680" cy="58572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9EF9-49FF-452A-B5D9-B7A02353D94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0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19FE-0124-4EE5-AB5B-5A9126B6D4A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dpi.wi.gov/cal/pdf/commoncorestds-qa.pdf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1" descr=""/>
          <p:cNvPicPr/>
          <p:nvPr/>
        </p:nvPicPr>
        <p:blipFill>
          <a:blip r:embed="rId1"/>
          <a:stretch/>
        </p:blipFill>
        <p:spPr>
          <a:xfrm>
            <a:off x="225360" y="1444680"/>
            <a:ext cx="8772480" cy="245088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837720" y="5105520"/>
            <a:ext cx="7696440" cy="137160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ptember 201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133200" y="378000"/>
            <a:ext cx="8712360" cy="7743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60912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spcBef>
                <a:spcPts val="24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3c00"/>
                </a:solidFill>
                <a:latin typeface="Corbel"/>
              </a:rPr>
              <a:t>Standards for Mathematical Practic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3c00"/>
                </a:solidFill>
                <a:latin typeface="Corbel"/>
              </a:rPr>
              <a:t>Standards for Mathematical Cont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ffc000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3c00"/>
                </a:solidFill>
                <a:latin typeface="Corbel"/>
              </a:rPr>
              <a:t>K-8 grade level standard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spcBef>
                <a:spcPts val="601"/>
              </a:spcBef>
              <a:buClr>
                <a:srgbClr val="ffc000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3c00"/>
                </a:solidFill>
                <a:latin typeface="Corbel"/>
              </a:rPr>
              <a:t>Algebraic thinking standards indicated in K-5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spcBef>
                <a:spcPts val="601"/>
              </a:spcBef>
              <a:buClr>
                <a:srgbClr val="ffc000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3c00"/>
                </a:solidFill>
                <a:latin typeface="Corbel"/>
              </a:rPr>
              <a:t>Grade level overviews:  K-8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ffc000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3c00"/>
                </a:solidFill>
                <a:latin typeface="Corbel"/>
              </a:rPr>
              <a:t>Mathematical Standards for High Schoo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spcBef>
                <a:spcPts val="601"/>
              </a:spcBef>
              <a:buClr>
                <a:srgbClr val="ffc000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3c00"/>
                </a:solidFill>
                <a:latin typeface="Corbel"/>
              </a:rPr>
              <a:t>Conceptual categori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spcBef>
                <a:spcPts val="601"/>
              </a:spcBef>
              <a:buClr>
                <a:srgbClr val="ffc000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3c00"/>
                </a:solidFill>
                <a:latin typeface="Corbel"/>
              </a:rPr>
              <a:t>Additional standards for preparation for advanced cours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133200" y="378000"/>
            <a:ext cx="8712360" cy="7743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38052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lvl="1" marL="708120" indent="-264600">
              <a:lnSpc>
                <a:spcPct val="90000"/>
              </a:lnSpc>
              <a:spcBef>
                <a:spcPts val="22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Grades K-5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Numbers and Operation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Operations and Algebraic Thinking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Measurement and Data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Geometr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Grades 6-8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Number System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Ratios and Proportional Relationships [Gr. 8 – Functions]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Expressions and Equation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Geometr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tatistics and Probabilit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965520" indent="-2214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1" descr=""/>
          <p:cNvPicPr/>
          <p:nvPr/>
        </p:nvPicPr>
        <p:blipFill>
          <a:blip r:embed="rId1"/>
          <a:stretch/>
        </p:blipFill>
        <p:spPr>
          <a:xfrm>
            <a:off x="133200" y="378000"/>
            <a:ext cx="8712360" cy="7743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38052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spcBef>
                <a:spcPts val="2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igh Schoo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Numbers and Quantit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lgebr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odelin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Geometr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tatistics and Probabilit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255600" y="152280"/>
            <a:ext cx="8437680" cy="12621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ools to lead the conversation around implement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spcAft>
                <a:spcPts val="1800"/>
              </a:spcAft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t of common belief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spcAft>
                <a:spcPts val="1800"/>
              </a:spcAft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ESAs’ Foundations Ki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spcAft>
                <a:spcPts val="1800"/>
              </a:spcAft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ramework(s) for curriculum, assessments, instruc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spcAft>
                <a:spcPts val="1800"/>
              </a:spcAft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xamples from pilot sites (“early implementers”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255600" y="152280"/>
            <a:ext cx="8437680" cy="12621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438120" indent="-318960">
              <a:lnSpc>
                <a:spcPct val="100000"/>
              </a:lnSpc>
              <a:spcAft>
                <a:spcPts val="1800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ll 2010:  Administration of WKC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spcAft>
                <a:spcPts val="1800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10-2015 (Projected):  Development of SMARTER Balanced Assessment Consortium’s formative resources, and benchmark and summative item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spcAft>
                <a:spcPts val="1800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13-2014 (Projected):  Piloting and field testing of the summative assessm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spcAft>
                <a:spcPts val="1800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14-2015:  New summative assessment system is projected to be in plac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285840" y="152280"/>
            <a:ext cx="8407440" cy="12621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ebsite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 DPI: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http://www.dpi.wi.gov/standard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mmon Core State Standards Initiative: 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http://www.corestandards.org/the-standards /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285840" y="152280"/>
            <a:ext cx="8407440" cy="12621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1218960" y="1447920"/>
            <a:ext cx="701028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milie Amundson, English Language Art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emilie.amundson@dpi.wi.gov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Jacque Karbon, Readin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jacque.karbon@dpi.wi.gov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iana Kasbaum, Mathematic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diana.kasbaum@dpi.wi.gov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helley Lee, Scienc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shelley.lee@dpi.wi.gov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Kristen McDaniel, Social Studi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kristen.mcdaniel@dpi.wi.gov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aul Sandrock, Content and Learning Team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s.paul.sandrock@dpi.wi.gov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285840" y="152280"/>
            <a:ext cx="8712000" cy="12621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5238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ommonly Asked Questions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Bef>
                <a:spcPts val="1800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at does it mean to ad0pt the Common Core Standards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Bef>
                <a:spcPts val="1800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ow will the Common Core Standards connect to curriculum, instruction, and assessment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TextBox 3"/>
          <p:cNvSpPr/>
          <p:nvPr/>
        </p:nvSpPr>
        <p:spPr>
          <a:xfrm>
            <a:off x="3124080" y="6272280"/>
            <a:ext cx="57913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bel"/>
              </a:rPr>
              <a:t>DPI Guidance Document for Common Core State Standards Initi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http://www.dpi.wi.gov/cal/pdf/commoncorestds-qa.pdf</a:t>
            </a:r>
            <a:r>
              <a:rPr b="1" lang="en-US" sz="14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255600" y="152280"/>
            <a:ext cx="8437680" cy="1262160"/>
          </a:xfrm>
          <a:prstGeom prst="rect">
            <a:avLst/>
          </a:prstGeom>
          <a:ln w="0">
            <a:noFill/>
          </a:ln>
        </p:spPr>
      </p:pic>
      <p:pic>
        <p:nvPicPr>
          <p:cNvPr id="312" name="Content Placeholder 3" descr=""/>
          <p:cNvPicPr/>
          <p:nvPr/>
        </p:nvPicPr>
        <p:blipFill>
          <a:blip r:embed="rId2"/>
          <a:stretch/>
        </p:blipFill>
        <p:spPr>
          <a:xfrm>
            <a:off x="-542880" y="1060560"/>
            <a:ext cx="999792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255600" y="152280"/>
            <a:ext cx="8437680" cy="12621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spcAft>
                <a:spcPts val="1800"/>
              </a:spcAft>
              <a:buClr>
                <a:srgbClr val="ffc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1800"/>
              </a:spcAft>
              <a:buClr>
                <a:srgbClr val="ffc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3300"/>
                </a:solidFill>
                <a:latin typeface="Corbel"/>
              </a:rPr>
              <a:t>Professional learnin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1800"/>
              </a:spcAft>
              <a:buClr>
                <a:srgbClr val="ffc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3300"/>
                </a:solidFill>
                <a:latin typeface="Corbel"/>
              </a:rPr>
              <a:t>Resource developm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1800"/>
              </a:spcAft>
              <a:buClr>
                <a:srgbClr val="ffc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3300"/>
                </a:solidFill>
                <a:latin typeface="Corbel"/>
              </a:rPr>
              <a:t>Curriculum developm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1800"/>
              </a:spcAft>
              <a:buClr>
                <a:srgbClr val="ffc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3300"/>
                </a:solidFill>
                <a:latin typeface="Corbel"/>
              </a:rPr>
              <a:t>Formative and benchmark assessmen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1800"/>
              </a:spcAft>
              <a:buClr>
                <a:srgbClr val="ffc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3300"/>
                </a:solidFill>
                <a:latin typeface="Corbel"/>
              </a:rPr>
              <a:t>Additional resourc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285840" y="152280"/>
            <a:ext cx="8529480" cy="12621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533520" y="16765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tudents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Demonstrate independenc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Build strong content knowledg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Respond to the varying demands of audience, task, purpose, and disciplin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omprehend as well as critiqu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Value evidenc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Use technology and digital media strategically and capabl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ome to understand other perspectives and cultures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285840" y="152280"/>
            <a:ext cx="8407440" cy="12621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533520" y="1676520"/>
            <a:ext cx="807696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tandards for Mathematical Practice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Make sense of problems and persevere in solving them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Reason abstractly and quantitativel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onstruct viable arguments and critique reasoning of other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Model with mathematic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Use appropriate tools strategicall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Attend to precision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Look for and make use of structur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Look for and express regularity in repeated reasoning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133200" y="378000"/>
            <a:ext cx="8712360" cy="7743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38052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Common Core Standards for English Language Arts and Literacy in History/Social Studies, Science, and Technical Subjec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College and Career Readiness (CCR)  Anchor Standards </a:t>
            </a:r>
            <a:r>
              <a:rPr b="0" lang="en-US" sz="2800" spc="-1" strike="noStrike">
                <a:solidFill>
                  <a:srgbClr val="785700"/>
                </a:solidFill>
                <a:latin typeface="Corbel"/>
              </a:rPr>
              <a:t>for each strand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5700"/>
                </a:solidFill>
                <a:latin typeface="Corbel"/>
              </a:rPr>
              <a:t>Readin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5700"/>
                </a:solidFill>
                <a:latin typeface="Corbel"/>
              </a:rPr>
              <a:t>Writin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5700"/>
                </a:solidFill>
                <a:latin typeface="Corbel"/>
              </a:rPr>
              <a:t>Speaking and Listenin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5700"/>
                </a:solidFill>
                <a:latin typeface="Corbel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49"/>
              </a:spcBef>
              <a:buClr>
                <a:srgbClr val="ffc000"/>
              </a:buClr>
              <a:buSzPct val="9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85700"/>
                </a:solidFill>
                <a:latin typeface="Corbel"/>
              </a:rPr>
              <a:t>Overarching targets (parallel for each grade band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24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133200" y="378000"/>
            <a:ext cx="8712360" cy="7743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60912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Reading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: Text complexity and growth of comprehens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Grades K-5:  Literature and Informational Tex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Grades K-5:  Reading Standards – Foundational Skil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Grades 6-12:  Literature and Informational Tex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2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Writing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: Text types, responding to reading, and researc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Speaking and Listening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: Flexible communication and collabor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Language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: Conventions and vocabular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133200" y="378000"/>
            <a:ext cx="8712360" cy="7743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38052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Common Core Standards for English Language Arts and Literacy in History/Social Studies, Science, and Technical Subjec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Grades 6-12: Standards for Literacy </a:t>
            </a:r>
            <a:r>
              <a:rPr b="0" lang="en-US" sz="2800" spc="-1" strike="noStrike">
                <a:solidFill>
                  <a:srgbClr val="785700"/>
                </a:solidFill>
                <a:latin typeface="Corbel"/>
              </a:rPr>
              <a:t>in   History/Social Studies, Science, &amp; Technical Subjec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45360" indent="-217080">
              <a:spcBef>
                <a:spcPts val="601"/>
              </a:spcBef>
              <a:buClr>
                <a:srgbClr val="ffc000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5700"/>
                </a:solidFill>
                <a:latin typeface="Corbel"/>
              </a:rPr>
              <a:t>Based on CCR Anchor Standards for Reading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45360" indent="-217080">
              <a:spcBef>
                <a:spcPts val="601"/>
              </a:spcBef>
              <a:buClr>
                <a:srgbClr val="ffc000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5700"/>
                </a:solidFill>
                <a:latin typeface="Corbel"/>
              </a:rPr>
              <a:t>Based on CCR Anchor Standards for  Writin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45360" indent="-217080">
              <a:spcBef>
                <a:spcPts val="601"/>
              </a:spcBef>
              <a:buClr>
                <a:srgbClr val="ffc000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5700"/>
                </a:solidFill>
                <a:latin typeface="Corbel"/>
              </a:rPr>
              <a:t>Presented as grade bands:  6-8, 9-10, 11-12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45360" indent="-217080">
              <a:spcBef>
                <a:spcPts val="601"/>
              </a:spcBef>
              <a:buClr>
                <a:srgbClr val="ffc000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5700"/>
                </a:solidFill>
                <a:latin typeface="Corbel"/>
              </a:rPr>
              <a:t>Technical subjects: defined as engineering, technology, business, design, and other workforce-related subjects; technical aspects of wider fields of study such as art and music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24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lvl="2" marL="945360" indent="-2170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4:59:43Z</dcterms:created>
  <dc:creator>kasbadl</dc:creator>
  <dc:description/>
  <dc:language>en-US</dc:language>
  <cp:lastModifiedBy>kniesbj</cp:lastModifiedBy>
  <dcterms:modified xsi:type="dcterms:W3CDTF">2010-09-02T14:10:35Z</dcterms:modified>
  <cp:revision>37</cp:revision>
  <dc:subject/>
  <dc:title>Common Core State Standard Initiati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42090283</vt:r8>
  </property>
  <property fmtid="{D5CDD505-2E9C-101B-9397-08002B2CF9AE}" pid="3" name="_AuthorEmail">
    <vt:lpwstr>S.Paul.Sandrock@dpi.wi.gov</vt:lpwstr>
  </property>
  <property fmtid="{D5CDD505-2E9C-101B-9397-08002B2CF9AE}" pid="4" name="_AuthorEmailDisplayName">
    <vt:lpwstr>Sandrock, S. Paul   DPI</vt:lpwstr>
  </property>
  <property fmtid="{D5CDD505-2E9C-101B-9397-08002B2CF9AE}" pid="5" name="_EmailSubject">
    <vt:lpwstr>Standards Website Update</vt:lpwstr>
  </property>
  <property fmtid="{D5CDD505-2E9C-101B-9397-08002B2CF9AE}" pid="6" name="_NewReviewCycle">
    <vt:lpwstr/>
  </property>
</Properties>
</file>