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F80-8624-449D-9755-3CEC6BE8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4F6-F21E-4CDB-94CF-F9D78BD8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E4B-B449-4372-8FFF-A46D60BA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0B6-144C-4D11-B5F3-38287343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B57-7B1F-47B2-BF0A-54E484C3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597-C4BB-40AE-A55D-933E177F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E0BA-DC2E-48B3-A690-B67D5DD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1065-C032-4A57-912C-AC0CD38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7946-EC73-4BC0-A8A5-304F3353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FBFD-4738-4B5B-AE89-3D4F57CC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6463-FBB1-402D-B7BB-4A03EC3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F18-7A15-4730-BB63-994C90DF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BB6E-E2F9-4B65-B16E-D72D037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8E9F-EE68-4490-BB93-B241996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064-9890-4ED2-8B4D-849213DB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9446-8C8A-4B27-817C-46633755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83D2-46F3-44CE-B068-02A64A5E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59FE-50A2-4278-BE8A-37F2E443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B75C-214A-4169-B38F-B043D4AA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B613-DA48-4BA2-B857-28C6C0D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0CB2-C2D0-4229-BDBA-2A7805F4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C8CF-01E5-44F2-B85A-5BFBADC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549-CCEE-41CA-BABD-641D12F6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72B1-ADF0-48D3-B135-4DA09F1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E9F6-E8E6-4EF9-9EEA-515EB38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1F69-4327-47D3-BC34-7EA8BBF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BEBF-0E71-4929-A65C-86A4797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29EF-9744-4200-9253-141ED842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38E2-8E5E-457E-A293-B1ACA4F4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10A0-261A-43F5-9B01-AAF11F87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4D19-0C76-49DE-BC6C-73CBCFEA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F82B-C4E1-48DD-BD04-81998F8F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9EF2-EB8E-4913-A87B-AE8B293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A24-ACD8-4636-B77D-9ADD050E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4CD1D-595C-43D0-83BA-3B71C0AA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7B80-4964-455A-BDBA-8B2EC8A6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14D5-5AC6-47E7-850C-33A0CD7C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6BC3-98BC-475C-92BB-BA7D4A3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E4AB-5381-447C-A3F0-15CA6FBD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E7C1-FAFC-4367-8BDD-663B278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9276-4DC1-4B21-B35E-819AEB4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F971-4670-4726-A5E5-5007374B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9008-F2E6-4FA9-906F-8C9D17A7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E180-490D-4E77-84BA-67C1C3CA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E57-569C-43BB-88E2-2740E00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20163-8ADA-4AB7-9277-8F843071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79E05-EF0E-42D6-B80E-46849A04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C097-4BB9-48F5-B35E-02781BE9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ACD8-D250-4C0C-80E8-5080C4D9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CA8E-4224-469F-AAD1-54DD8727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098B-D95F-42C8-AE5A-0A236D2F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8074-6737-4474-B5BB-CA021DF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D6826-9809-41A2-B433-DD7025B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B262-0B15-457B-B9A0-CF3C5DF3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4545-7A7C-4D19-9C18-9E47B9D3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FFC-F295-4617-875B-EF2AFE12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950F-58C1-400F-92C2-7CF3E213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1A76E-7200-4DDC-B616-F1B50FB3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14BC-BFD6-4225-81D0-0C5B90D3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F5569-9A77-448D-B815-DCAA3F3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2485-A963-4175-B71F-6C9B0E0D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3DEA-EB47-4171-9E3B-300E3D68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67786-57B1-4806-A0C0-82C87D9E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6DC7C-C63C-4239-B853-2196D66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90431-7148-4111-AC78-C0BF705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4B91-ABA4-4ED3-8BF1-D28ADC57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791-D026-45EE-9422-2C36182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7CE19-F4C8-457D-AF2F-9B924E2D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E1BD-D284-465D-A311-79238AF7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9C6B-5AB3-449D-894C-139F0CE3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D8DB2-A6A2-4414-8F0C-438E5776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78D93-2487-46B2-919E-7F6F772F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2C549-409D-47F9-9E84-EBCF7B70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943E-E69A-4679-8DC5-290C637A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F83D7-CAF7-44B5-A785-C36433CE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9CF35-F92D-4A94-AB5D-9DDC773D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3D2A4-2CB5-49EE-8B31-D42656DE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325-4AE6-4676-8E71-026DD1D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F0A8F-88AB-4FBE-87A9-D1729AE2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730FC-A107-4033-BBFC-D5CCFE98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D438-7AB5-424C-84DE-F2B5418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B362E-5C7D-4AFE-89B9-18599C10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1EEC8-21EB-4AF6-A2E4-EF7F7F22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D5B-A770-4604-9933-6F4C228E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015E-2AAE-4CD7-B343-42951E2BED4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B9D-504D-4406-9706-A7A25A4F66F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519D-6A33-42D3-87AF-04C4B8DA3E7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068D-AA4B-44A7-916B-A13DAA4BD1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543-61DD-4A08-9A16-AB6CC0F5B33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4B3B-01C4-49EA-A8D0-DF2B029E371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F46F-C76A-4CEC-9B66-B5E581F54AC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pi.wi.gov/cal/pdf/commoncorestds-qa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8772480" cy="245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7720" y="5105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ptember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Cont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K-8 grade level 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lgebraic thinking standards indicated in K-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Grade level overviews:  K-8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Mathematical Standards for High 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Conceptual catego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dditional standards for preparation for advanced cour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lvl="1" marL="708120" indent="-264600">
              <a:lnSpc>
                <a:spcPct val="90000"/>
              </a:lnSpc>
              <a:spcBef>
                <a:spcPts val="2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K-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s and Oper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perations and Algebraic Think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easurement and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6-8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 Syst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atios and Proportional Relationships [Gr. 8 – Functions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pressions and Equ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umbers and Quant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ols to lead the conversation around implement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t of common belief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SAs’ Foundations K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ramework(s) for curriculum, assessments, instr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amples from pilot sites (“early implementers”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2010:  Administration of WK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-2015 (Projected):  Development of SMARTER Balanced Assessment Consortium’s formative resources, and benchmark and summative ite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3-2014 (Projected):  Piloting and field testing of the summative assess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4-2015:  New summative assessment system is projected to be in p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bsi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 DPI: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ttp://www.dpi.wi.gov/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on Core State Standards Initiative: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ttp://www.corestandards.org/the-standards 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218960" y="1447920"/>
            <a:ext cx="70102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milie Amundson, English Language Ar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milie.amunds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Jacque Karbon, 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jacque.karb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ana Kasbaum, Mathemat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ana.kasbaum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elley Lee, Scie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elley.lee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Kristen McDaniel, Social Stud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risten.mcdaniel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ul Sandrock, Content and Learning Tea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.paul.sandrock@dpi.wi.gov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71200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monly Asked Question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does it mean to ad0pt the Common Core Standard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will the Common Core Standards connect to curriculum, instruction, and assessmen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3124080" y="6272280"/>
            <a:ext cx="57913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DPI Guidance Document for Common Core State Standards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dpi.wi.gov/cal/pdf/commoncorestds-qa.pdf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"/>
          <p:cNvPicPr/>
          <p:nvPr/>
        </p:nvPicPr>
        <p:blipFill>
          <a:blip r:embed="rId2"/>
          <a:stretch/>
        </p:blipFill>
        <p:spPr>
          <a:xfrm>
            <a:off x="-542880" y="1060560"/>
            <a:ext cx="99979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Professional lear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Resource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Curriculum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Formative and benchmark assess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5294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53352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udent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monstrate indepen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 strong content knowled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spond to the varying demands of audience, task, purpose, and disciplin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prehend as well as critiqu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alue evi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technology and digital media strategically and capab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e to understand other perspectives and cultur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533520" y="1676520"/>
            <a:ext cx="8076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ndards for Mathematical Practic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ake sense of problems and persevere in solving th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ason abstractly and quantitative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nstruct viable arguments and critique reasoning of other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 with mathematic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appropriate tools strategical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ttend to precis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make use of structur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express regularity in repeated reason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llege and Career Readiness (CCR)  Anchor Standards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for each strand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Speaking and Liste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ffc000"/>
              </a:buClr>
              <a:buSzPct val="9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5700"/>
                </a:solidFill>
                <a:latin typeface="Corbel"/>
              </a:rPr>
              <a:t>Overarching targets (parallel for each grade band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complexity and growth of comprehen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Reading Standards – Foundational Ski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6-12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types, responding to reading, and resear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Speaking and Listen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Flexible communication and collabor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Conventions and vocabul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Grades 6-12: Standards for Literacy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in   History/Social Studies, Science, &amp;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Read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 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Presented as grade bands:  6-8, 9-10, 11-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Technical subjects: defined as engineering, technology, business, design, and other workforce-related subjects; technical aspects of wider fields of study such as art and musi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4:59:43Z</dcterms:created>
  <dc:creator>kasbadl</dc:creator>
  <dc:description/>
  <dc:language>en-US</dc:language>
  <cp:lastModifiedBy>kniesbj</cp:lastModifiedBy>
  <dcterms:modified xsi:type="dcterms:W3CDTF">2010-09-02T14:10:35Z</dcterms:modified>
  <cp:revision>37</cp:revision>
  <dc:subject/>
  <dc:title>Common Core State Standard Initi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42090283</vt:r8>
  </property>
  <property fmtid="{D5CDD505-2E9C-101B-9397-08002B2CF9AE}" pid="3" name="_AuthorEmail">
    <vt:lpwstr>S.Paul.Sandrock@dpi.wi.gov</vt:lpwstr>
  </property>
  <property fmtid="{D5CDD505-2E9C-101B-9397-08002B2CF9AE}" pid="4" name="_AuthorEmailDisplayName">
    <vt:lpwstr>Sandrock, S. Paul   DPI</vt:lpwstr>
  </property>
  <property fmtid="{D5CDD505-2E9C-101B-9397-08002B2CF9AE}" pid="5" name="_EmailSubject">
    <vt:lpwstr>Standards Website Update</vt:lpwstr>
  </property>
  <property fmtid="{D5CDD505-2E9C-101B-9397-08002B2CF9AE}" pid="6" name="_NewReviewCycle">
    <vt:lpwstr/>
  </property>
</Properties>
</file>