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3E6-CC90-4FA5-92E8-4F53A150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32E-1E46-4B02-BCF7-A8D20487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59F-D71A-4A37-9BD7-965B232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453-A66C-4C38-AB19-5AA0F65D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0738-DD3C-445F-A6DA-1C91A31F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B8E-263B-4704-8809-1527886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C325-F6D9-476D-8C9D-900BC0CB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D5F-6896-4B6B-B6B3-409E16A2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964B-B3DD-4F07-82FA-3F61560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CFC-85AC-4A99-8545-F0123E1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EF3-45F6-4BAD-9C5B-E68FE41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D31-F2CF-4F68-9198-6B8DE3D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55DC-D526-42FF-A3EC-6A0AD9A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094F-1B7C-4342-9886-83C98EF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FFC-8BCC-4F70-BCED-315F981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23D-BC06-4837-BD7F-5D1123D2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F474-EBA1-4ADF-B22D-7EABD440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171B-F430-4988-B9D3-58E42790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554A-C70E-4330-B826-8A62C554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8B45-A777-4B1A-974D-D8CD08CC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91F8-9C75-4984-A393-9C568D3E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C7A7-EAF6-4437-9096-6B140FF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CFE-D588-4EAB-B3DB-8E75779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FB34-4698-42DA-A524-2BF3F6B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0DAE-D0D0-41CA-BD3F-813EEC3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DD0D-7652-44DC-A1F1-781BA79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0900-A328-4E8C-86E3-02FE704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6478-193A-4F58-86BE-E9CCACDD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67B6-2EF9-4B4A-8993-D22E4E03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28E5-C2CC-4EAC-B5A2-10134EB1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CF27-6ADF-4CD4-B876-EB1DE8D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A5AF-CB85-4701-9756-8192A0FB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23F3-1703-461E-883B-0DE4852E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17E-F9AE-4153-89F8-E592F4D9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D11A-1DF4-412B-94E0-D058475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2CAC-A7A6-45D2-B38A-AD46487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35FB-BEC8-4C72-BA6F-4FD0743F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2043-802C-4B38-B17C-A57E49A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7794-37F4-44E4-82E0-1653728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186B-9180-41CC-8FAC-A9D72D7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5D9D-3E45-4860-8592-1132DF8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F615-01A9-41AF-8D37-1B4768DE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6620-B4E9-4865-A747-ED2B9A37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1789-A57E-49B7-8D89-D0ED1D9A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777-28E6-4EB6-A646-65483B7E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1BD6-FE8C-4A9D-B93A-D0BC83F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ED17-860F-47CF-9A96-5EDFBD4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C4FF-40BD-4606-90C1-A001534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CF5F-252E-41DD-A5E1-866108E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D9206-9755-4E18-93F2-615AD52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34CF-978F-4046-AEE7-8C89258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A65A-3EAD-471E-8BB4-1CB4648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A17C-2043-4AE0-8C67-AE1D010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460D-D0B1-4748-B947-9AE354E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CC04-7525-44DF-A264-DBE5E503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347-C518-4B55-BE70-B4BA11B2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3408-A417-4EAD-B6E4-25986EE9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0EA3-AD41-435D-B8CE-97CECF54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9050-88C9-4D5B-B78B-0579B59E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16FA-74CE-4B96-BDB2-708C61B3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6922-4FDE-45D8-B6B4-7591494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114C3-678E-41DD-8F2D-4DED2B7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E8C4-1719-4806-B1E1-7BC0CFA1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2002F-B023-4975-99E3-9F42D3B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BF19-F6F5-4E9C-A865-D0BB6AD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8DDD-96E7-45D4-9301-20E6C56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076-6352-4399-972C-2466DCA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06A9-BEBA-4E95-A83C-63BDEE36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FF4B-539A-41DD-878E-8A450240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09A1-3C21-4D36-97E7-AB20F867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CB17-EEF8-4F83-8606-58B9E09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DA9D-A772-45D3-A789-FBCD7409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19422-678B-40C5-9BBA-8DDC6C0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38FF-BF1A-4FA5-A122-0B873C3F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B4F7-4B8F-4C27-B69F-2521AC1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2AE3-5B3A-4F23-9922-92B5A35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22F9-9AA6-4B3C-90ED-F14824B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7D0-4CD8-4A77-8F0B-952532E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8CAAE-6448-4F8D-B2D5-A53C8D5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7B9B-4605-4E61-85BB-483B81D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8274-8666-43F7-A05E-E64A13F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65FF-71B4-4F9B-ACC1-540FACAD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4022-F3D3-4DD6-8D1F-30E6EB54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1A1-2E86-42CD-A126-069812E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085-6F28-43FC-9793-54185B8FAD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57E6-4D27-4262-B8EB-76770AD6468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8C0-12CB-4A2F-A679-DCF7E98E917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C74A-62C0-4E08-8B8E-9266CD045AA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1F89-0B5E-47B0-A5F5-7FA37492EB2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2"/>
          <a:srcRect l="20946" t="36809" r="21643" b="22723"/>
          <a:stretch/>
        </p:blipFill>
        <p:spPr>
          <a:xfrm>
            <a:off x="76320" y="6195960"/>
            <a:ext cx="1066680" cy="585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22B-15A3-4F47-91D9-F01A2EDFC5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CD7-99BC-470E-B374-C806034D21F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pi.wi.gov/cal/pdf/commoncorestds-qa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772480" cy="24508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7720" y="5105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ptember 201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c00"/>
                </a:solidFill>
                <a:latin typeface="Corbel"/>
              </a:rPr>
              <a:t>Standards for Mathematical Cont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K-8 grade level 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lgebraic thinking standards indicated in K-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Grade level overviews:  K-8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3c00"/>
                </a:solidFill>
                <a:latin typeface="Corbel"/>
              </a:rPr>
              <a:t>Mathematical Standards for High 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Conceptual catego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spcBef>
                <a:spcPts val="601"/>
              </a:spcBef>
              <a:buClr>
                <a:srgbClr val="ffc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c00"/>
                </a:solidFill>
                <a:latin typeface="Corbel"/>
              </a:rPr>
              <a:t>Additional standards for preparation for advanced cours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lvl="1" marL="708120" indent="-264600">
              <a:lnSpc>
                <a:spcPct val="90000"/>
              </a:lnSpc>
              <a:spcBef>
                <a:spcPts val="2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K-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s and Oper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perations and Algebraic Think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easurement and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ades 6-8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umber Syst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atios and Proportional Relationships [Gr. 8 – Functions]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pressions and Equ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65520" indent="-2214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umbers and Quant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tistics and Prob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ols to lead the conversation around implem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 of common belief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SAs’ Foundations K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ramework(s) for curriculum, assessments, instru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spcAft>
                <a:spcPts val="1800"/>
              </a:spcAft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amples from pilot sites (“early implementers”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ll 2010:  Administration of WK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-2015 (Projected):  Development of SMARTER Balanced Assessment Consortium’s formative resources, and benchmark and summative it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3-2014 (Projected):  Piloting and field testing of the summative assess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4-2015:  New summative assessment system is projected to be in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bsi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 DPI: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ttp://www.dpi.wi.gov/standar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on Core State Standards Initiative: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ttp://www.corestandards.org/the-standards 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218960" y="144792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ilie Amundson, English Language Ar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milie.amunds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acque Karbon, 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jacque.karbon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ana Kasbaum, Mathe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ana.kasbaum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elley Lee, Scie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elley.lee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Kristen McDaniel, Social Stud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risten.mcdaniel@dpi.wi.gov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ul Sandrock, Content and Learning Te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.paul.sandrock@dpi.wi.gov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71200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5238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ly Asked Question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does it mean to ad0pt the Common Core Standard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800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will the Common Core Standards connect to curriculum, instruction, and assessmen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3124080" y="6272280"/>
            <a:ext cx="57913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DPI Guidance Document for Common Core State Standar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dpi.wi.gov/cal/pdf/commoncorestds-qa.pdf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3" descr=""/>
          <p:cNvPicPr/>
          <p:nvPr/>
        </p:nvPicPr>
        <p:blipFill>
          <a:blip r:embed="rId2"/>
          <a:stretch/>
        </p:blipFill>
        <p:spPr>
          <a:xfrm>
            <a:off x="-542880" y="1060560"/>
            <a:ext cx="99979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Professional lear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Resource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Curriculum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Formative and benchmark assess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1800"/>
              </a:spcAft>
              <a:buClr>
                <a:srgbClr val="ffc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3300"/>
                </a:solidFill>
                <a:latin typeface="Corbe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5294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udent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monstrate indepen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uild strong content knowled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ond to the varying demands of audience, task, purpose, and disciplin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prehend as well as critiqu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evide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technology and digital media strategically and capab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me to understand other perspectives and cultur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33520" y="1676520"/>
            <a:ext cx="80769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tandards for Mathematical Practic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ake sense of problems and persevere in solving the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ason abstractly and quantitative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onstruct viable arguments and critique reasoning of other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Model with mathematic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appropriate tools strategicall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end to precis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make use of structur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ok for and express regularity in repeated reason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llege and Career Readiness (CCR)  Anchor Standards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for each strand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Speaking and Listen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49"/>
              </a:spcBef>
              <a:buClr>
                <a:srgbClr val="ffc000"/>
              </a:buClr>
              <a:buSzPct val="9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5700"/>
                </a:solidFill>
                <a:latin typeface="Corbel"/>
              </a:rPr>
              <a:t>Overarching targets (parallel for each grade band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complexity and growth of comprehen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K-5:  Reading Standards – Foundational Ski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des 6-12:  Literature and Informational Tex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2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Text types, responding to reading, and re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Speaking and Listen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Flexible communication and collabor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nguag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Conventions and vocabul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712360" cy="774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805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Common Core Standards for English Language Arts and Literacy in History/Social Studies, Science, and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rades 6-12: Standards for Literacy </a:t>
            </a:r>
            <a:r>
              <a:rPr b="0" lang="en-US" sz="2800" spc="-1" strike="noStrike">
                <a:solidFill>
                  <a:srgbClr val="785700"/>
                </a:solidFill>
                <a:latin typeface="Corbel"/>
              </a:rPr>
              <a:t>in   History/Social Studies, Science, &amp; Technical Subjec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Readin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Based on CCR Anchor Standards for  Wri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Presented as grade bands:  6-8, 9-10, 11-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ffc000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5700"/>
                </a:solidFill>
                <a:latin typeface="Corbel"/>
              </a:rPr>
              <a:t>Technical subjects: defined as engineering, technology, business, design, and other workforce-related subjects; technical aspects of wider fields of study such as art and musi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24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59:43Z</dcterms:created>
  <dc:creator>kasbadl</dc:creator>
  <dc:description/>
  <dc:language>en-US</dc:language>
  <cp:lastModifiedBy>kniesbj</cp:lastModifiedBy>
  <dcterms:modified xsi:type="dcterms:W3CDTF">2010-09-02T14:10:35Z</dcterms:modified>
  <cp:revision>37</cp:revision>
  <dc:subject/>
  <dc:title>Common Core State Standard Initi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2090283</vt:r8>
  </property>
  <property fmtid="{D5CDD505-2E9C-101B-9397-08002B2CF9AE}" pid="3" name="_AuthorEmail">
    <vt:lpwstr>S.Paul.Sandrock@dpi.wi.gov</vt:lpwstr>
  </property>
  <property fmtid="{D5CDD505-2E9C-101B-9397-08002B2CF9AE}" pid="4" name="_AuthorEmailDisplayName">
    <vt:lpwstr>Sandrock, S. Paul   DPI</vt:lpwstr>
  </property>
  <property fmtid="{D5CDD505-2E9C-101B-9397-08002B2CF9AE}" pid="5" name="_EmailSubject">
    <vt:lpwstr>Standards Website Update</vt:lpwstr>
  </property>
  <property fmtid="{D5CDD505-2E9C-101B-9397-08002B2CF9AE}" pid="6" name="_NewReviewCycle">
    <vt:lpwstr/>
  </property>
</Properties>
</file>